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3F2-FFC7-45F4-BB56-F1432531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2E34-09E7-4711-9719-384CE789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1B96-90FD-44A8-9002-84C697C30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B16-807B-40E3-ABC6-00B38116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E976-A83C-4D55-8B47-BD87D6767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200-0ACA-4180-9DF1-96D5AC941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924-5B8E-4B31-A4C4-E6651792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082-980F-4591-8F53-21ABE6A0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D70-3F91-4411-A33B-EFB9D9F6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B1A-7BE4-4DCD-945E-0074862E5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0A77-3862-4DDE-B898-525574876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854-3B36-4593-844A-08AFA83D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29A-220D-4C47-BE0B-257FFE4D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BE5-C187-4FAD-88D7-D90E15F4A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348-3E82-4EF1-9CE9-33E085CE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9BAF-4FAD-453F-965D-EC904B71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D315-A011-4B3E-8D9B-DE3F3905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E61-148B-4FD9-B89F-ED1D292F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3CE3-DFF2-4974-927B-68A84B488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4EA-1CA4-4175-8050-D8053D2BB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F2D-D0E0-4707-AE1C-83BFD091E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F4B-BBB9-4972-BB2D-998650F4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2EF-76C5-4B98-8EE3-38FEAFA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741-28BB-41B2-9688-BD04D8B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1DB-19FB-4C97-8878-7AEFBE4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F87-6F81-40C6-A36F-ECDF2AF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16F-43DA-4FB0-B30A-EADA4948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F9F-599C-4173-93A3-678E1A8E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8DF-4F45-4D28-A47C-ADB8C70E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DD5-69ED-479B-959C-13BBAC59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243-6ADA-4D6A-8B6A-E18BF1E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224-54C8-4E1B-BC45-B56D317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254-5798-496A-A7EA-672936E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C55-E008-492F-BE33-CDB9C9BF5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-152280" y="2286000"/>
            <a:ext cx="9448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NAGEMENT OF DEPOSIT INSURANCE FUND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hilippine Experi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057400" y="457200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RA A. DIAZ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Vice Presi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osit Insurance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579132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8</a:t>
            </a:r>
            <a:r>
              <a:rPr b="0" i="1" lang="en-US" sz="23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 Asia Regional Committee Meeting &amp; International Confere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92929"/>
                </a:solidFill>
                <a:latin typeface="Arial"/>
              </a:rPr>
              <a:t>January 18, 20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91908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838080" y="1913040"/>
          <a:ext cx="6629400" cy="357336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 (I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87.6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 Insurance Fund (DI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I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/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23"/>
          <p:cNvSpPr/>
          <p:nvPr/>
        </p:nvSpPr>
        <p:spPr>
          <a:xfrm>
            <a:off x="762120" y="8064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V. DEPOSIT INSURANCE FUND SU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762480" y="15080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080" y="1523880"/>
            <a:ext cx="792504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Section 17 of the PDIC Char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a) Money of the Corporation not otherwise employed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vested in obligations of the Republic of the Philippines 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in obligations guaranteed as to principal and interest by the Republic of the Philipp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(b) The banking or checking accounts of the Corporation shall b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375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kept with the </a:t>
            </a:r>
            <a:r>
              <a:rPr b="0" i="1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Bangko Sentral ng Pilipinas (Central Bank)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2925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526"/>
                </a:solidFill>
                <a:latin typeface="Arial"/>
                <a:ea typeface="Times New Roman"/>
              </a:rPr>
              <a:t>any other bank designated as depository or fiscal agent of the Philippine government</a:t>
            </a:r>
            <a:r>
              <a:rPr b="0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62120" y="762120"/>
            <a:ext cx="723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27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S &amp; SINKING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028"/>
          <p:cNvGraphicFramePr/>
          <p:nvPr/>
        </p:nvGraphicFramePr>
        <p:xfrm>
          <a:off x="152280" y="914400"/>
          <a:ext cx="891540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1540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29"/>
          <p:cNvGraphicFramePr/>
          <p:nvPr/>
        </p:nvGraphicFramePr>
        <p:xfrm>
          <a:off x="76320" y="4724280"/>
          <a:ext cx="8915400" cy="2133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2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724280"/>
                    <a:ext cx="8915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6212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6"/>
          <p:cNvGraphicFramePr/>
          <p:nvPr/>
        </p:nvGraphicFramePr>
        <p:xfrm>
          <a:off x="685800" y="1625760"/>
          <a:ext cx="8001000" cy="52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25760"/>
                    <a:ext cx="8001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7"/>
          <p:cNvSpPr/>
          <p:nvPr/>
        </p:nvSpPr>
        <p:spPr>
          <a:xfrm>
            <a:off x="2209680" y="129528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FOLIO M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Object 6"/>
          <p:cNvGraphicFramePr/>
          <p:nvPr/>
        </p:nvGraphicFramePr>
        <p:xfrm>
          <a:off x="762120" y="2362320"/>
          <a:ext cx="807696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0769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7"/>
          <p:cNvSpPr/>
          <p:nvPr/>
        </p:nvSpPr>
        <p:spPr>
          <a:xfrm>
            <a:off x="685800" y="1079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Investment Portfolio Income v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I of Selected Local Bond Fu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6 -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09480" y="609480"/>
            <a:ext cx="617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 INVESTMENT OF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62120" y="990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1600200"/>
            <a:ext cx="7391520" cy="42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Central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rowing interest rate shall not exce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sury bill ra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ny depository or fiscal agen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term loans, credit lines &amp; 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990720" y="1219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600200"/>
            <a:ext cx="7391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ity to B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utilized for long-term rehabil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to banks ( 1997-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yment is ensured through the set-up of sinking fun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838080" y="8827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62120" y="80640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. ALTERNATIVE FUND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62120" y="1527120"/>
            <a:ext cx="82296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suance of Bonds, Debentures and Other Oblig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ettlement of insured deposit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to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fore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-ex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pproves the issuance/ re-issuance, interest r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/ maturity, servicing, placement and red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be provided reserves for the redemption 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 of the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762120" y="838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371600" y="2057400"/>
            <a:ext cx="7467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Added Tax (VAT) on assessment collections from member banks (1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Tax on assessment collections from member banks (3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447920" y="2514600"/>
            <a:ext cx="7010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’s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IC is engaged in business, rendering non-life insurance services to its member banks for a fee, hence, liable to pay V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762120" y="1143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685800" y="91440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 OUTLIN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5800" y="1676520"/>
            <a:ext cx="79246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Risk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Deposit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Insurance Reserve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und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Legislative Amendments to Build-up the 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27"/>
          <p:cNvSpPr/>
          <p:nvPr/>
        </p:nvSpPr>
        <p:spPr>
          <a:xfrm>
            <a:off x="838080" y="175176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IC maintains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28"/>
          <p:cNvSpPr/>
          <p:nvPr/>
        </p:nvSpPr>
        <p:spPr>
          <a:xfrm>
            <a:off x="83808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good or service; consistent with public policy, it is mandated to collect premiums from banks for purposes of DEPOSITOR PROTE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not engaged in the sale of insurance, PDIC is not engaged in trade or busines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a regulatory agency performing a sovereign func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does not have the authority to pass on VAT to banks because the rate of assessment is fixed by law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228600" y="761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. TAX ISSUES with the BUREAU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AL REVENUE (BI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050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762120" y="27432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5 ye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ax obligations of the PDIC    chargeable to Tax Expenditure Fund (T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53"/>
          <p:cNvSpPr/>
          <p:nvPr/>
        </p:nvSpPr>
        <p:spPr>
          <a:xfrm>
            <a:off x="719280" y="200664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TION FROM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54"/>
          <p:cNvSpPr/>
          <p:nvPr/>
        </p:nvSpPr>
        <p:spPr>
          <a:xfrm>
            <a:off x="914400" y="3657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ear and there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DIC exempt fro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 ta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 withholding 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T  on assessment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228600" y="7621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RECENT LEGISLATIVE AMENDMENTS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-UP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523880" y="1905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ssuance of Bonds, Debentures and Other Obli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4300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guaranteed by the Nation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143000" y="3581280"/>
            <a:ext cx="88390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exceed two times the DIF as of date of th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t issu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0666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 payment  of  deposit  insurance on 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371600" y="3048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Investment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990720" y="1905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 to   determine   insured 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Unfunded, fictitious and fraudulent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295280" y="2362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ayment of deposit insurance on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1430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ty to  determine  insured 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37160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 Deposits from proceeds  from  an unlawfu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371600" y="303516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514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Deposit   accounts   constituting   and/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nating from unsafe and unsound banking practices, after issuance of a cease and desist order by PDIC against such deposit accounts o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62120" y="8380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II. OTHER LEGISLATIVE AMENDM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DING to the BUILD-UP of the DI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514600" y="480060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diaz@pdic.gov.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2-84148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209680" y="228600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28"/>
          <p:cNvSpPr/>
          <p:nvPr/>
        </p:nvSpPr>
        <p:spPr>
          <a:xfrm>
            <a:off x="457200" y="1600200"/>
            <a:ext cx="63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of September 30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9"/>
          <p:cNvSpPr/>
          <p:nvPr/>
        </p:nvSpPr>
        <p:spPr>
          <a:xfrm>
            <a:off x="533520" y="7621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457200" y="958680"/>
            <a:ext cx="716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. DEPOSIT INSURANCE RISK EXPOSUR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035"/>
          <p:cNvGraphicFramePr/>
          <p:nvPr/>
        </p:nvGraphicFramePr>
        <p:xfrm>
          <a:off x="0" y="1828800"/>
          <a:ext cx="9448920" cy="754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10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44892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12952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adequacy is essential to ensure that the Corporation can absorb losses arising from bank failures under non-systemic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urance reserves shall be maintained at a reasonable level that ensures capital adequ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able level of insurance reserves shall be determined thru a Target Methodology.  It shall be based on the estimated risks posed by member banks to the D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685800"/>
            <a:ext cx="792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DEPOSIT INSURANCE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639720" y="1447920"/>
            <a:ext cx="786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mposition of Insurance Reserves Targ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2209680"/>
            <a:ext cx="786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pecific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potential losses from banks that have high probability of fail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85800" y="3581280"/>
            <a:ext cx="7894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l Reser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 minimum level of insurance reserves to cov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nanticip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losses from deposit insurance payouts and grant of financial assi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 as a percentage of estimated insured deposits (EID) of banks not included in the estimation of specific reser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9480" y="83808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 THE METHODOLOG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7893000" y="853920"/>
            <a:ext cx="12510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5756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666880"/>
          <a:ext cx="8343720" cy="2378160"/>
        </p:xfrm>
        <a:graphic>
          <a:graphicData uri="http://schemas.openxmlformats.org/drawingml/2006/table">
            <a:tbl>
              <a:tblPr/>
              <a:tblGrid>
                <a:gridCol w="1579320"/>
                <a:gridCol w="1202040"/>
                <a:gridCol w="1066680"/>
                <a:gridCol w="1587600"/>
                <a:gridCol w="1454040"/>
                <a:gridCol w="14540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s-at- Risk (BAR), Categories 1&amp;2, and Unr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9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65.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7"/>
          <p:cNvSpPr/>
          <p:nvPr/>
        </p:nvSpPr>
        <p:spPr>
          <a:xfrm>
            <a:off x="459360" y="1600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SPECIFIC Rese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457200" y="76212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685800" y="2666880"/>
          <a:ext cx="7620120" cy="17179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  <a:gridCol w="1905120"/>
                <a:gridCol w="1905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Risk 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 for 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s 3, 4 &amp; 5 Ban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87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21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47"/>
          <p:cNvSpPr/>
          <p:nvPr/>
        </p:nvSpPr>
        <p:spPr>
          <a:xfrm>
            <a:off x="613440" y="160020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imation of GENERAL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09840" y="230976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5"/>
          <p:cNvSpPr/>
          <p:nvPr/>
        </p:nvSpPr>
        <p:spPr>
          <a:xfrm>
            <a:off x="609480" y="806400"/>
            <a:ext cx="586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838080" y="1884240"/>
          <a:ext cx="6629400" cy="3756240"/>
        </p:xfrm>
        <a:graphic>
          <a:graphicData uri="http://schemas.openxmlformats.org/drawingml/2006/table">
            <a:tbl>
              <a:tblPr/>
              <a:tblGrid>
                <a:gridCol w="4883400"/>
                <a:gridCol w="1746000"/>
              </a:tblGrid>
              <a:tr h="103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65.8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ser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ance Reserves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8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Ratio to Insured Depos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24"/>
          <p:cNvSpPr/>
          <p:nvPr/>
        </p:nvSpPr>
        <p:spPr>
          <a:xfrm>
            <a:off x="762120" y="838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 ESTIMATION of 2009 RESERVES TAR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762480" y="15238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in Billion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E:\banner\banne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27"/>
          <p:cNvGraphicFramePr/>
          <p:nvPr/>
        </p:nvGraphicFramePr>
        <p:xfrm>
          <a:off x="152280" y="914400"/>
          <a:ext cx="8923320" cy="44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92332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02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OSIT INSURANCE F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 to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 Billion Pe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1029"/>
          <p:cNvGraphicFramePr/>
          <p:nvPr/>
        </p:nvGraphicFramePr>
        <p:xfrm>
          <a:off x="133200" y="5334120"/>
          <a:ext cx="8934480" cy="144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5334120"/>
                    <a:ext cx="89344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9" descr=""/>
          <p:cNvPicPr/>
          <p:nvPr/>
        </p:nvPicPr>
        <p:blipFill>
          <a:blip r:embed="rId6"/>
          <a:stretch/>
        </p:blipFill>
        <p:spPr>
          <a:xfrm>
            <a:off x="7893000" y="77796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8:57:05Z</dcterms:created>
  <dc:creator>mgdemesa</dc:creator>
  <dc:description/>
  <dc:language>en-US</dc:language>
  <cp:lastModifiedBy>Pratik Mitra</cp:lastModifiedBy>
  <dcterms:modified xsi:type="dcterms:W3CDTF">2010-01-15T08:02:16Z</dcterms:modified>
  <cp:revision>182</cp:revision>
  <dc:subject/>
  <dc:title>PowerPoint Presentation</dc:title>
</cp:coreProperties>
</file>