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09-12-20T16:46:32.734000000" idx="1">
    <p:pos x="10" y="10"/>
    <p:text>поменяй расцветку (более контрастную), а то рядом стоящие группы сливаются между собой. + добавь данные по количеству банков в каждой группе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3893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68FD-2B94-4068-AE44-75250DDC29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579E-D777-4194-A71F-8D1E100D90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лку переместить, комменты сокращенно + обозначить дату введения ДС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A2A-3E7D-49CA-8F53-8CECB88F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714-2A8F-4FA3-8A2E-D099AC96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824-C45C-42EF-82D8-33C7FF98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DC0-0EA2-4FC6-A3D6-4769CE34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43913-DA89-48F6-8E77-B290DF7E68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31CA7-463F-4967-97CD-5F6B4C520F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93EFB-656E-4AAF-929A-1F4FBFF31D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81E7C-4CCB-4519-A59F-D76275D0A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5F9F9-769D-45A5-94B1-52FB4C9B0D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1AA01-545D-4961-B215-C486C5E22D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D6DCF-1E7D-4D68-98F0-9079E13E1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AD0-5243-441D-B0A9-A614BE71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ED2D4-A5C0-41CC-80CA-96D399DAFB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6F6F6-C84E-4DE9-B621-6250C23D09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65DA7-04C9-4655-AC6E-0B6E3A71A7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F33AA-6A16-47C8-8C6A-5AAA1C5D90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49920-FA4D-4515-BC82-7CBA09ECAD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BEB03-7BE5-45AE-8E7F-738979DA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5FF1E-717D-4ED4-A935-7BC4CEEA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2B64E-2CDE-4382-8BAC-952B1FDB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9B169-301B-419D-8A50-5E7978B4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3DC79-313B-48F7-B5DB-7C6ECB77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376-D5F7-4284-AEDB-3B68490C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ED586-400B-40FF-84E1-F7B11EF8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A7E5EB-32A1-44A5-A365-54F20E3C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055E3-7C67-4E31-98B2-B409521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FE4393-F2C9-4F1E-8588-EA3938AC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0A950-7366-4A47-AF23-74FFEF2A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118F5-E4CF-4DF2-85AE-86622F12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C838E1-A284-4E98-96D5-45742001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E31-A859-4A13-BE6E-9F9AB4A1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2C6-D4E7-4CEA-AAEF-4D76BC04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424-13F5-4238-8763-67B718E1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BF1-D8AD-4820-A84E-A111200D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BBC-C16D-416E-A19D-FC6A5038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6FE-4A2C-4AF5-9136-159F117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1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54DF-17A3-40DC-AF1C-52934D81077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ADI-PPT-1"/>
          <p:cNvPicPr/>
          <p:nvPr/>
        </p:nvPicPr>
        <p:blipFill>
          <a:blip r:embed="rId2"/>
          <a:srcRect l="0" t="0" r="91672" b="0"/>
          <a:stretch/>
        </p:blipFill>
        <p:spPr>
          <a:xfrm>
            <a:off x="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3893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0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2338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1" marL="571680" indent="-227160">
              <a:spcBef>
                <a:spcPts val="601"/>
              </a:spcBef>
              <a:buClr>
                <a:srgbClr val="233893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2" marL="914400" indent="-228600">
              <a:spcBef>
                <a:spcPts val="601"/>
              </a:spcBef>
              <a:buClr>
                <a:srgbClr val="2338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3" marL="1255680" indent="-226800">
              <a:spcBef>
                <a:spcPts val="601"/>
              </a:spcBef>
              <a:buClr>
                <a:srgbClr val="233893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4" marL="1598760" indent="-223920">
              <a:spcBef>
                <a:spcPts val="601"/>
              </a:spcBef>
              <a:buClr>
                <a:srgbClr val="2338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5" marL="1598760" indent="-2239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  <a:p>
            <a:pPr lvl="6" marL="1598760" indent="-2239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93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7ac3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1700-D848-4E1F-B41C-7D8FEE77D232}" type="slidenum">
              <a:rPr b="0" lang="ru-RU" sz="1200" spc="-1" strike="noStrike">
                <a:solidFill>
                  <a:srgbClr val="007ac3"/>
                </a:solidFill>
                <a:latin typeface="Verdan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IADI-PPT-1"/>
          <p:cNvPicPr/>
          <p:nvPr/>
        </p:nvPicPr>
        <p:blipFill>
          <a:blip r:embed="rId3"/>
          <a:srcRect l="0" t="0" r="92503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8035920" y="5105520"/>
            <a:ext cx="110808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IADI-PPT-1"/>
          <p:cNvPicPr/>
          <p:nvPr/>
        </p:nvPicPr>
        <p:blipFill>
          <a:blip r:embed="rId5"/>
          <a:srcRect l="0" t="0" r="92503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8035920" y="5105520"/>
            <a:ext cx="110808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corporat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7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05CA-3268-47B7-A0BF-0642AEA334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corporat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6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6920" y="2143080"/>
            <a:ext cx="74581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33893"/>
                </a:solidFill>
                <a:latin typeface="Book Antiqua"/>
              </a:rPr>
              <a:t>FUNDING</a:t>
            </a:r>
            <a:br>
              <a:rPr sz="4800"/>
            </a:br>
            <a:r>
              <a:rPr b="1" i="1" lang="en-US" sz="4000" spc="-1" strike="noStrike">
                <a:solidFill>
                  <a:srgbClr val="233893"/>
                </a:solidFill>
                <a:latin typeface="Verdana"/>
              </a:rPr>
              <a:t>sources, mechanisms and critical issues</a:t>
            </a:r>
            <a:r>
              <a:rPr b="1" lang="en-US" sz="4000" spc="-1" strike="noStrike">
                <a:solidFill>
                  <a:srgbClr val="233893"/>
                </a:solidFill>
                <a:latin typeface="Verdana"/>
              </a:rPr>
              <a:t>. </a:t>
            </a:r>
            <a:r>
              <a:rPr b="1" i="1" lang="en-US" sz="4000" spc="-1" strike="noStrike">
                <a:solidFill>
                  <a:srgbClr val="233893"/>
                </a:solidFill>
                <a:latin typeface="Verdana"/>
              </a:rPr>
              <a:t>Experience of the KDIF</a:t>
            </a:r>
            <a:endParaRPr b="1" lang="en-US" sz="4000" spc="-1" strike="noStrike">
              <a:solidFill>
                <a:srgbClr val="233893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858920" y="4724280"/>
            <a:ext cx="32418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93"/>
                </a:solidFill>
                <a:latin typeface="Verdana"/>
              </a:rPr>
              <a:t>Presented by</a:t>
            </a:r>
            <a:endParaRPr b="0" lang="en-US" sz="2000" spc="-1" strike="noStrike">
              <a:solidFill>
                <a:srgbClr val="23389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93"/>
                </a:solidFill>
                <a:latin typeface="Verdana"/>
              </a:rPr>
              <a:t>Mrs. Bakhyt Mazhenova</a:t>
            </a:r>
            <a:endParaRPr b="0" lang="en-US" sz="2000" spc="-1" strike="noStrike">
              <a:solidFill>
                <a:srgbClr val="233893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93"/>
                </a:solidFill>
                <a:latin typeface="Verdana"/>
              </a:rPr>
              <a:t>Chair, KDIF</a:t>
            </a:r>
            <a:endParaRPr b="0" lang="en-US" sz="2000" spc="-1" strike="noStrike">
              <a:solidFill>
                <a:srgbClr val="233893"/>
              </a:solidFill>
              <a:latin typeface="Verdana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pmitra\AppData\Local\Microsoft\Windows\Temporary Internet Files\Content.Outlook\FPXYD5H6\patch.jpg"/>
          <p:cNvPicPr/>
          <p:nvPr/>
        </p:nvPicPr>
        <p:blipFill>
          <a:blip r:embed="rId2"/>
          <a:stretch/>
        </p:blipFill>
        <p:spPr>
          <a:xfrm>
            <a:off x="1000080" y="790560"/>
            <a:ext cx="75661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lat rate system advantage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0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c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r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element in initial reserve accu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 of the market to self-re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642600"/>
            <a:ext cx="811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eorgia"/>
              </a:rPr>
              <a:t>Flat rate system shortcomings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85560" y="2060280"/>
            <a:ext cx="7102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bility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 member - bank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 a DI’ fund su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Differential rate premium system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56800" y="1571400"/>
            <a:ext cx="78296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 tasks of th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of the DI’ reserve at maintained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assessment of the member-banks’ financial soundness and risk profile on the base of the existed reports and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on of the member-bank fail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ion of the reserve sufficiency and effective funds’ planning and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ing of timely measures within insuranc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7756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The KDIF has developed national differential premium system  -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BATA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, which is in effect since November of 2006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Banks’ regular premium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4" name="Object 13"/>
          <p:cNvGraphicFramePr/>
          <p:nvPr/>
        </p:nvGraphicFramePr>
        <p:xfrm>
          <a:off x="900000" y="1600200"/>
          <a:ext cx="77868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00200"/>
                    <a:ext cx="77868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1"/>
          <p:cNvSpPr/>
          <p:nvPr/>
        </p:nvSpPr>
        <p:spPr>
          <a:xfrm>
            <a:off x="1619280" y="1557360"/>
            <a:ext cx="18810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 of the DPS on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1"/>
          <p:cNvSpPr/>
          <p:nvPr/>
        </p:nvSpPr>
        <p:spPr>
          <a:xfrm rot="16200000">
            <a:off x="519120" y="330516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ln.KZ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1"/>
          <p:cNvSpPr/>
          <p:nvPr/>
        </p:nvSpPr>
        <p:spPr>
          <a:xfrm>
            <a:off x="3851280" y="1628640"/>
            <a:ext cx="21430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of the DPS’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6372360" y="1484280"/>
            <a:ext cx="18428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sen conditions of two systemic b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2627280" y="2133720"/>
            <a:ext cx="432000" cy="25905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5003640" y="198900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7093080" y="1989000"/>
            <a:ext cx="574560" cy="792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Effects of the DPS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BATA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71400"/>
            <a:ext cx="75438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-banks have been encouraged to follow discreet deposit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DIF closely monitors identified risky banks (group “E”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s track of their financial positions and any events with negative pot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pects correctness and comprehensiveness of depositors’ records in the banks’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s consultations with Regul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10920" y="1628280"/>
            <a:ext cx="806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Is it always possible in the practice to cover reserve’ deficit by member-banks’ extra premium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1640" y="428760"/>
            <a:ext cx="7345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929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t-Tranzit Bank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SC – big regional bank failed in 2007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number of guaranteed depositors exceeded 200,000 person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wo cases out of three the KDIF’ reserve deficit was financed by its Sole Shareholder – the National Bank of Kazakhst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42960" y="5286240"/>
            <a:ext cx="8286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t has established a prece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4643280" y="4076640"/>
            <a:ext cx="503280" cy="936720"/>
          </a:xfrm>
          <a:prstGeom prst="downArrow">
            <a:avLst>
              <a:gd name="adj1" fmla="val 50000"/>
              <a:gd name="adj2" fmla="val 4653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esson learned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85520" y="1989000"/>
            <a:ext cx="79009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In practice it is complicated to implement theoretically attractive scheme on covering a reserve’ deficit by member-banks as market would always try to impose whole responsibility for bank’ failure on Regulato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eorgia"/>
              </a:rPr>
              <a:t>The Kazakhstani DIS in crisis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5280" y="1571760"/>
            <a:ext cx="7931160" cy="44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verage amount was increased more than 7 times – from 700 thousand KZT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7 ths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up to 5 million KZT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4 ths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   the KDIF’ potential financial burden increased by 6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inancial positions and soundness of the banks, especially big ones, significantly deteriorated (since middle of 2009 two systemic banks are in the worse group – “E”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2627280" y="278136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56800" y="1000080"/>
            <a:ext cx="79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deposit insurance system should have available all funding mechanisms necessary to ensure the prompt reimbursement of depositors’ claims including a means of obtaining supplementary back-up funding for liquidity purposes when required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Principle “Funding”, Core principles for effective deposit insurance system, BCBS and IAD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Classification groups of the DP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10" name="Object 153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1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3800" spc="-1" strike="noStrike">
                <a:solidFill>
                  <a:srgbClr val="000000"/>
                </a:solidFill>
                <a:latin typeface="Georgia"/>
              </a:rPr>
              <a:t>Kazakhstani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DIS in crisis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00080" y="1785960"/>
            <a:ext cx="76867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azakhstani banking sector is highly concentrated – 5 largest banks holds about 75% of total amount of retail deposits as well as total amount of the banks’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7756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Outcomes for the KDIF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28800" y="1700280"/>
            <a:ext cx="7819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ain portion of the premiums to the KDIF paid by mentioned 5 ba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ase of the failure of some of these banks the reserve deficit might be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of reserve deficit’s financing by member-banks extra premiums in crisis environment is not applic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499680"/>
            <a:ext cx="797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eorgia"/>
              </a:rPr>
              <a:t>State’ financial support of the DI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55640" y="1844640"/>
            <a:ext cx="7632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uthorized capital of the KDIF was increased by the Central Bank from 16 bln. KZT up to 110 bln. KZT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≈735 mln.$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entral Bank will continue to increase every year the KDIF’ authorized capital by 10% till end of 2011 within State Anti-crisis Progr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500" spc="-1" strike="noStrike">
                <a:solidFill>
                  <a:srgbClr val="ffff66"/>
                </a:solidFill>
                <a:latin typeface="Lucida Console"/>
              </a:rPr>
              <a:t>Thank you for</a:t>
            </a:r>
            <a:br>
              <a:rPr sz="5500"/>
            </a:br>
            <a:r>
              <a:rPr b="0" i="1" lang="en-US" sz="5500" spc="-1" strike="noStrike">
                <a:solidFill>
                  <a:srgbClr val="ffff66"/>
                </a:solidFill>
                <a:latin typeface="Lucida Console"/>
              </a:rPr>
              <a:t>your attention</a:t>
            </a:r>
            <a:endParaRPr b="1" lang="en-US" sz="55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37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eorgia"/>
              </a:rPr>
              <a:t>Sources of the KDIF’ reserve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57160" y="2133720"/>
            <a:ext cx="8072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 bank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KDIF’ authorized capital (up to 50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veries from the assets of forcibly liquidated b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ment pro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27120" indent="-453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penalties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tructure of the special reserve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as of the 3 quarter 20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91" name="Object 29"/>
          <p:cNvGraphicFramePr/>
          <p:nvPr/>
        </p:nvGraphicFramePr>
        <p:xfrm>
          <a:off x="465120" y="1596960"/>
          <a:ext cx="830736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596960"/>
                    <a:ext cx="830736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8"/>
          <p:cNvSpPr/>
          <p:nvPr/>
        </p:nvSpPr>
        <p:spPr>
          <a:xfrm>
            <a:off x="3185280" y="314172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6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6209640" y="2421000"/>
            <a:ext cx="33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6630120" y="3573360"/>
            <a:ext cx="24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7854120" y="3500280"/>
            <a:ext cx="24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unding of the KDIF reserve’s defici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3449520" y="2214720"/>
            <a:ext cx="2664000" cy="103176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DIF reserve’s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857160" y="4175280"/>
            <a:ext cx="1944720" cy="1135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nks’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ition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miu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665520" y="4435560"/>
            <a:ext cx="2232000" cy="61236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orrowing from Central Ba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V="1">
            <a:off x="1720800" y="3142800"/>
            <a:ext cx="2303640" cy="103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6545160" y="4175280"/>
            <a:ext cx="2232000" cy="1135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anks’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traordinar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miu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 flipH="1" flipV="1">
            <a:off x="4745160" y="3244680"/>
            <a:ext cx="1440" cy="113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 flipH="1" flipV="1">
            <a:off x="5394240" y="3220920"/>
            <a:ext cx="2232000" cy="9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5394240" y="3220920"/>
            <a:ext cx="0" cy="1160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85880" y="928800"/>
            <a:ext cx="79293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y responsibility for paying the cost of deposit insurance should be borne by banks since they and their clients directly benefit from having an effective deposit insurance system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1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Principle, Core principles for effective deposit insurance system, BCBS and IAD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KDIF’ special reserve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1" name="Object 90"/>
          <p:cNvGraphicFramePr/>
          <p:nvPr/>
        </p:nvGraphicFramePr>
        <p:xfrm>
          <a:off x="539640" y="1647720"/>
          <a:ext cx="826164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7720"/>
                    <a:ext cx="826164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2" descr="C:\Documents and Settings\User\Мои документы\Мои рисунки\KDIF\IADI.JPG"/>
          <p:cNvPicPr/>
          <p:nvPr/>
        </p:nvPicPr>
        <p:blipFill>
          <a:blip r:embed="rId3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4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78"/>
          <p:cNvSpPr/>
          <p:nvPr/>
        </p:nvSpPr>
        <p:spPr>
          <a:xfrm rot="16200000">
            <a:off x="590760" y="3284640"/>
            <a:ext cx="49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bln.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KZ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5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785520"/>
            <a:ext cx="797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Premiums’ levy mechanism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8800" y="2643120"/>
            <a:ext cx="775800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t rate premium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l rate premium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lat rate premium system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00080" y="1856880"/>
            <a:ext cx="76867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 Kazakhstan: 1999 – 2006 year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Rates: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) 0.16% per quarter (0.64% annually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2) 0.25% per quarter (1% annually) for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new banks for first 2 year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C:\Documents and Settings\User\Мои документы\Мои рисунки\KDIF\IADI.JPG"/>
          <p:cNvPicPr/>
          <p:nvPr/>
        </p:nvPicPr>
        <p:blipFill>
          <a:blip r:embed="rId1"/>
          <a:stretch/>
        </p:blipFill>
        <p:spPr>
          <a:xfrm>
            <a:off x="0" y="0"/>
            <a:ext cx="57168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7562880" y="90360"/>
            <a:ext cx="1438200" cy="5526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9"/>
          <p:cNvSpPr/>
          <p:nvPr/>
        </p:nvSpPr>
        <p:spPr>
          <a:xfrm>
            <a:off x="714240" y="6378480"/>
            <a:ext cx="8429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a0185"/>
                </a:solidFill>
                <a:latin typeface="Verdana"/>
                <a:ea typeface="ＭＳ Ｐゴシック"/>
              </a:rPr>
              <a:t>The VIII Asian Regional Committee Meeting</a:t>
            </a:r>
            <a:r>
              <a:rPr b="1" lang="ru-RU" sz="1500" spc="-1" strike="noStrike">
                <a:solidFill>
                  <a:srgbClr val="1a0185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3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09:19:16Z</dcterms:created>
  <dc:creator>Karima Omarova</dc:creator>
  <dc:description/>
  <dc:language>en-US</dc:language>
  <cp:lastModifiedBy>Pratik Mitra</cp:lastModifiedBy>
  <dcterms:modified xsi:type="dcterms:W3CDTF">2010-01-15T08:01:03Z</dcterms:modified>
  <cp:revision>35</cp:revision>
  <dc:subject/>
  <dc:title>FUNDING sources, mechanisms and critical issues. Experience of the KDIF</dc:title>
</cp:coreProperties>
</file>