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48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4648-9F46-41D1-966C-00B5693C2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81AD-C534-4A98-B50B-B9DEA7FACE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EB30-8DD8-4025-968E-99D0C001CA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622D-B9B5-40EC-A2AC-37B374574F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5F1A-1E54-42A8-AA8A-FDED324D83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6607-6F45-44A2-AF16-6DB29BC306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83EE-45E9-4156-9889-0D05A1961D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98BB-FCBF-4980-8620-A65B84942F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1D0D-0CD3-4538-AFA1-721EC2CDC9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CEBB-7637-48B8-9B8A-0229201EB8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2547-24F4-4385-A8D9-01CD94534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6BB4-F193-47A0-B59D-436DE5B7A3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B5FD-492B-4C33-BA6C-C8D6E747DE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5276-D324-429C-8E0C-13C6E8C7B8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0CE7-D629-409D-85E0-7310643BC6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1945-D284-4495-AC0B-517ED90B9B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9840" y="942192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9F8E-7869-4E30-B283-EBD4318325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887-FCDB-46EC-A5CC-BA45FB3D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F5B-4DAD-4D91-82C6-710F2B63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347-8151-4966-B763-7863A80A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968-6288-4D43-885D-7A9CB938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EA5B-D096-4C79-A9E8-B4A6D63A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C5DA-13E9-4BAD-AC59-BD8B04F0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7B22-2118-4AF7-8D6D-C432042C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6A05-758F-4987-9688-6B2FBAF0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C9D0-B6BE-4CFF-BB0A-1140F5AF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E5B6-C4C5-4424-9A2C-BCE5B4A7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CDBA-9384-426E-8918-38A64195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3DF-19AF-4C10-B5DB-5CD7A950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0D66-25A1-4655-929B-A0D71E6E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B45A-52CD-47AD-BCA6-D6F9998F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8F42-89DE-4BA6-ADC2-3B848F4E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AAE2-4B1A-4F5A-91D2-FEAB4B3B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791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95E9-DC41-4127-8A6E-E79A0608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F29-8CAA-46E6-BA9B-DC1CA6A8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BBA-BBEE-470F-8F06-F85B952A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002-9255-4614-8DB2-020807FA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690-4E4D-450C-82E3-1AD0D5C4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9A0-1FD9-492A-9A75-BDA7C34C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791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145-184B-40B0-A654-327160D1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791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D0A-C625-442B-ACDE-C16A224F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360" y="-15840"/>
            <a:ext cx="9180360" cy="6684840"/>
            <a:chOff x="-36360" y="-15840"/>
            <a:chExt cx="9180360" cy="6684840"/>
          </a:xfrm>
        </p:grpSpPr>
        <p:sp>
          <p:nvSpPr>
            <p:cNvPr id="1" name="Freeform 3"/>
            <p:cNvSpPr/>
            <p:nvPr/>
          </p:nvSpPr>
          <p:spPr>
            <a:xfrm>
              <a:off x="-36360" y="-15840"/>
              <a:ext cx="9165600" cy="66697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21600" y="-720"/>
              <a:ext cx="9165600" cy="666972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476000" y="508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779640" y="5084640"/>
            <a:ext cx="289548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250920" y="64530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26C1-0ADE-4FA3-B69A-66F6CFF0E9AA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biglogo"/>
          <p:cNvPicPr/>
          <p:nvPr/>
        </p:nvPicPr>
        <p:blipFill>
          <a:blip r:embed="rId3"/>
          <a:stretch/>
        </p:blipFill>
        <p:spPr>
          <a:xfrm>
            <a:off x="6629400" y="6019920"/>
            <a:ext cx="251460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>
            <a:off x="0" y="4292640"/>
            <a:ext cx="9144000" cy="259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0" y="0"/>
            <a:ext cx="9180000" cy="6021360"/>
            <a:chOff x="0" y="0"/>
            <a:chExt cx="9180000" cy="6021360"/>
          </a:xfrm>
        </p:grpSpPr>
        <p:sp>
          <p:nvSpPr>
            <p:cNvPr id="47" name="Freeform 4"/>
            <p:cNvSpPr/>
            <p:nvPr/>
          </p:nvSpPr>
          <p:spPr>
            <a:xfrm>
              <a:off x="14400" y="0"/>
              <a:ext cx="9165600" cy="60213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65600" cy="60213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pic>
        <p:nvPicPr>
          <p:cNvPr id="49" name="Picture 11" descr="biglogo"/>
          <p:cNvPicPr/>
          <p:nvPr/>
        </p:nvPicPr>
        <p:blipFill>
          <a:blip r:embed="rId3"/>
          <a:stretch/>
        </p:blipFill>
        <p:spPr>
          <a:xfrm>
            <a:off x="5869080" y="5734080"/>
            <a:ext cx="3240000" cy="1081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E9CA-7C5A-4C78-9CA3-54C4CAD8AA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ari/My%20Documents/My%20Documents/Presentasi,%20Sambutan,%20Pidato/materi%20sosialisasi%20BPR%20dan%20BPRS/Presentasi%20LPS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57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dcf6"/>
                </a:solidFill>
                <a:latin typeface="Book Antiqua"/>
              </a:rPr>
              <a:t>Indonesia Deposit Insurance Corporation</a:t>
            </a:r>
            <a:r>
              <a:rPr b="1" lang="en-US" sz="4000" spc="-1" strike="noStrike">
                <a:solidFill>
                  <a:srgbClr val="9adcf6"/>
                </a:solidFill>
                <a:latin typeface="Book Antiqu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9adcf6"/>
                </a:solidFill>
                <a:latin typeface="Book Antiqua"/>
              </a:rPr>
              <a:t>FUNDING MECHANISM</a:t>
            </a:r>
            <a:r>
              <a:rPr b="1" lang="en-US" sz="3600" spc="-1" strike="noStrike">
                <a:solidFill>
                  <a:srgbClr val="9adcf6"/>
                </a:solidFill>
                <a:latin typeface="Book Antiqua"/>
              </a:rPr>
              <a:t> 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55640" y="4292640"/>
            <a:ext cx="5327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resented by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rdaus Djaelani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hief Executive Officer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79280" y="6237360"/>
            <a:ext cx="396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9160" indent="-608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Book Antiqua"/>
              </a:rPr>
              <a:t>8</a:t>
            </a:r>
            <a:r>
              <a:rPr b="0" lang="sv-SE" sz="1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sv-SE" sz="1400" spc="-1" strike="noStrike">
                <a:solidFill>
                  <a:srgbClr val="000000"/>
                </a:solidFill>
                <a:latin typeface="Book Antiqua"/>
              </a:rPr>
              <a:t> ARC Meeting &amp; International Conference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Book Antiqua"/>
              </a:rPr>
              <a:t>Goa – India, 18-20 January 2010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1" name="Picture 7" descr="C:\Users\pmitra\AppData\Local\Microsoft\Windows\Temporary Internet Files\Content.Outlook\FPXYD5H6\patch.jpg"/>
          <p:cNvPicPr/>
          <p:nvPr/>
        </p:nvPicPr>
        <p:blipFill>
          <a:blip r:embed="rId1"/>
          <a:stretch/>
        </p:blipFill>
        <p:spPr>
          <a:xfrm>
            <a:off x="1000080" y="290520"/>
            <a:ext cx="7566120" cy="1138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B8F2-3A25-4056-83DE-7D6548F66736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5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Back-Up Funding 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03280" y="1700280"/>
            <a:ext cx="6553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In order to have access to sufficient funding in time,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has fully back up from the Governmen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f IDIC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encounter liquidity problem,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the Government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ovide liquidity support facility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e facility conditions includes interest rate, tenor, repayment, and other arrangements will be ruled in Government Regulation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ere is no ceiling limit for these faciliti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is not allowed to borrow directly from financial institutions or marke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DBA1-607A-427B-AB00-2FA167120A49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9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Back-Up Funding 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03280" y="170028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When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capital drops below its initial capital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the Government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jects new capital to 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restore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</a:t>
            </a:r>
            <a:r>
              <a:rPr b="0" lang="id-ID" sz="2200" spc="-1" strike="noStrike">
                <a:solidFill>
                  <a:srgbClr val="ffffff"/>
                </a:solidFill>
                <a:latin typeface="Book Antiqua"/>
              </a:rPr>
              <a:t> capital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restoring IDIC capital, Government could issue Bon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rough private placement, or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o the market, or to Central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The terms of bond issues include amount, interest rate, tenor, repayment of principle and interest, and other requirements will be ruled in Government Regulation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is not allowed to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raise funds through bond issuance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8FD6-A3BC-431C-926E-364037791DAE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3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32000" y="1628640"/>
            <a:ext cx="648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ensure that IDIC has sufficient fund to fufill all of its duties, IDIC sets target Insurance Reserves and calculates Provision for Insurance Loss (PIL)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’s Insurance Reserves is targeted at the level of 2.5%of the insurable deposit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determinig the target level, IDIC taken into accounts : composition &amp; concentration of member banks (number, size, line of business), liabilities structures, probability of defaults, bank supervisory effectiveness, and failure experienc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9649-B339-4026-B71C-511639B5EDE3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332000" y="1628640"/>
            <a:ext cx="648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allocation of annual surplus : 80% for Insurance Reserves and 20% for Special Purpose Reserve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nual surplus imply IDIC’s one year  operational revenues minus operational expenses and corporate income tax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42880" indent="-5428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pecial Purpose Reserve is a fund which purposed to enhance capacity &amp; capability of IDIC in carrying out its duties and responsibilities such as for fixed assets, human capital, and IT expenditur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8" name="AutoShape 6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FFB4-8275-4382-A3D8-D7AEABF8EA1C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332000" y="1628640"/>
            <a:ext cx="648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7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nce the target of Insurance Reserves reach 2.5% of insurable deposits, all or part of the annual surplu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will be remitted as non-tax revenue to the Governmen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7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In user fee model approach, the Government bears all the risks associated with member bank failures, so member banks have no claim againts the Insurance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serv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7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Otherwise, the government could reduce the premium rate once the target fund met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2" name="AutoShape 5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3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DCB1-C03E-4FB0-AB72-7F427F5A10CD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87280" y="1628640"/>
            <a:ext cx="66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10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surance Reserves basically is an Une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xpected Losses (UL) that’s extraordinary losses of the DI Fund that can occur under unlikely, yet possible unfavorable outcomes, which, however, are not </a:t>
            </a:r>
            <a:r>
              <a:rPr b="0" lang="en-GB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considered a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systemic crisis scenario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10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ovision for Insurance Loss (PIL) i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Expected Losses (EL) that’s the “usual” or average losses that a DI Fund incurs under normal circumstances of deposit insurer’s busines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10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IDIC develops the method of calculating PIL using credit risk model approach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6" name="AutoShape 4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4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2E72-3A28-48C9-A64E-0A5F5EEF53C8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1332000" y="1700280"/>
            <a:ext cx="6912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Mathematically, PIL or EL is calculated as the sum of products of EAD, PD and LGD over the whole row of member banks: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Book Antiqua"/>
              <a:buChar char="•"/>
              <a:tabLst>
                <a:tab algn="r" pos="798516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EAD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 – est. insured deposits in a member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PD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   – probability of default of a member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85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r" pos="798516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LGD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 – share of non-recoverable resources from the bankruptcy estate of a liquidated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2268360" y="2995560"/>
                <a:ext cx="5112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5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0C32-3B9F-44C4-8F90-9BC0D4FFC21F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4" name="Kepala Eksekutif"/>
          <p:cNvSpPr/>
          <p:nvPr/>
        </p:nvSpPr>
        <p:spPr>
          <a:xfrm>
            <a:off x="2052720" y="1628640"/>
            <a:ext cx="4681440" cy="287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Insurance Premium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5" name="Direktorat Klaim Dan Likuidasi Bank"/>
          <p:cNvSpPr/>
          <p:nvPr/>
        </p:nvSpPr>
        <p:spPr>
          <a:xfrm>
            <a:off x="1476360" y="5445000"/>
            <a:ext cx="525780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nual Surplu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6" name="Komite Informasi"/>
          <p:cNvSpPr/>
          <p:nvPr/>
        </p:nvSpPr>
        <p:spPr>
          <a:xfrm>
            <a:off x="2054160" y="3141720"/>
            <a:ext cx="468000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Claim Reimbursements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7" name="Kepala Eksekutif"/>
          <p:cNvSpPr/>
          <p:nvPr/>
        </p:nvSpPr>
        <p:spPr>
          <a:xfrm>
            <a:off x="2052720" y="1989000"/>
            <a:ext cx="4681440" cy="287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Investment Yield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8" name="Kepala Eksekutif"/>
          <p:cNvSpPr/>
          <p:nvPr/>
        </p:nvSpPr>
        <p:spPr>
          <a:xfrm>
            <a:off x="2054160" y="2349360"/>
            <a:ext cx="4680000" cy="287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Membership Contribution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Kepala Eksekutif"/>
          <p:cNvSpPr/>
          <p:nvPr/>
        </p:nvSpPr>
        <p:spPr>
          <a:xfrm>
            <a:off x="2054160" y="2708280"/>
            <a:ext cx="4680000" cy="2872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Others : Fines &amp; Asset Recoverie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0" name="Komite Informasi"/>
          <p:cNvSpPr/>
          <p:nvPr/>
        </p:nvSpPr>
        <p:spPr>
          <a:xfrm>
            <a:off x="2054160" y="3500280"/>
            <a:ext cx="4680000" cy="28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Bank Resolutions Expenses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1" name="Komite Informasi"/>
          <p:cNvSpPr/>
          <p:nvPr/>
        </p:nvSpPr>
        <p:spPr>
          <a:xfrm>
            <a:off x="2054160" y="3860640"/>
            <a:ext cx="4680000" cy="28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Increase (Decrease) Provision for Insurance Loss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2" name="Komite Informasi"/>
          <p:cNvSpPr/>
          <p:nvPr/>
        </p:nvSpPr>
        <p:spPr>
          <a:xfrm>
            <a:off x="2054160" y="4221000"/>
            <a:ext cx="4680000" cy="28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General &amp; Administration Expense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3" name="Text Box 20"/>
          <p:cNvSpPr/>
          <p:nvPr/>
        </p:nvSpPr>
        <p:spPr>
          <a:xfrm rot="16200000">
            <a:off x="1001520" y="2127240"/>
            <a:ext cx="1371600" cy="368280"/>
          </a:xfrm>
          <a:prstGeom prst="rect">
            <a:avLst/>
          </a:prstGeom>
          <a:solidFill>
            <a:srgbClr val="9adcf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evenue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4" name="Text Box 21"/>
          <p:cNvSpPr/>
          <p:nvPr/>
        </p:nvSpPr>
        <p:spPr>
          <a:xfrm rot="16200000">
            <a:off x="1013400" y="3640680"/>
            <a:ext cx="1366920" cy="3682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xpense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5" name="Direktorat Klaim Dan Likuidasi Bank"/>
          <p:cNvSpPr/>
          <p:nvPr/>
        </p:nvSpPr>
        <p:spPr>
          <a:xfrm>
            <a:off x="1476360" y="4653000"/>
            <a:ext cx="5256360" cy="288720"/>
          </a:xfrm>
          <a:prstGeom prst="rect">
            <a:avLst/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urplus Before Tax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6" name="Direktorat Klaim Dan Likuidasi Bank"/>
          <p:cNvSpPr/>
          <p:nvPr/>
        </p:nvSpPr>
        <p:spPr>
          <a:xfrm>
            <a:off x="1477800" y="5011560"/>
            <a:ext cx="525636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orporate Income Tax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7" name="Komite Informasi"/>
          <p:cNvSpPr/>
          <p:nvPr/>
        </p:nvSpPr>
        <p:spPr>
          <a:xfrm>
            <a:off x="6877080" y="2924280"/>
            <a:ext cx="719280" cy="28872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Minu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8" name="Komite Informasi"/>
          <p:cNvSpPr/>
          <p:nvPr/>
        </p:nvSpPr>
        <p:spPr>
          <a:xfrm>
            <a:off x="6877080" y="4797360"/>
            <a:ext cx="719280" cy="289080"/>
          </a:xfrm>
          <a:prstGeom prst="rect">
            <a:avLst/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Minu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6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90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31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7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9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A869-527E-48B9-AFAD-1C2503616D30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2" name="Kepala Eksekutif"/>
          <p:cNvSpPr/>
          <p:nvPr/>
        </p:nvSpPr>
        <p:spPr>
          <a:xfrm>
            <a:off x="1692360" y="2492280"/>
            <a:ext cx="1152360" cy="289080"/>
          </a:xfrm>
          <a:prstGeom prst="rect">
            <a:avLst/>
          </a:prstGeom>
          <a:solidFill>
            <a:srgbClr val="70b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80%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3" name="Direktorat Klaim Dan Likuidasi Bank"/>
          <p:cNvSpPr/>
          <p:nvPr/>
        </p:nvSpPr>
        <p:spPr>
          <a:xfrm>
            <a:off x="2268360" y="1700280"/>
            <a:ext cx="468000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nual Surplu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4" name="Kepala Eksekutif"/>
          <p:cNvSpPr/>
          <p:nvPr/>
        </p:nvSpPr>
        <p:spPr>
          <a:xfrm>
            <a:off x="6372360" y="2492280"/>
            <a:ext cx="115236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20%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5" name="Kepala Eksekutif"/>
          <p:cNvSpPr/>
          <p:nvPr/>
        </p:nvSpPr>
        <p:spPr>
          <a:xfrm>
            <a:off x="971640" y="2852640"/>
            <a:ext cx="2592360" cy="360360"/>
          </a:xfrm>
          <a:prstGeom prst="rect">
            <a:avLst/>
          </a:prstGeom>
          <a:solidFill>
            <a:srgbClr val="70b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surance Reserve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6" name="Kepala Eksekutif"/>
          <p:cNvSpPr/>
          <p:nvPr/>
        </p:nvSpPr>
        <p:spPr>
          <a:xfrm>
            <a:off x="5580000" y="2852640"/>
            <a:ext cx="2664000" cy="3603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Special Purpose Reserve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7" name="Line 17"/>
          <p:cNvSpPr/>
          <p:nvPr/>
        </p:nvSpPr>
        <p:spPr>
          <a:xfrm flipH="1">
            <a:off x="2843280" y="2060640"/>
            <a:ext cx="1728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4572000" y="2060640"/>
            <a:ext cx="180036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9" name="Kepala Eksekutif"/>
          <p:cNvSpPr/>
          <p:nvPr/>
        </p:nvSpPr>
        <p:spPr>
          <a:xfrm>
            <a:off x="2987640" y="5084640"/>
            <a:ext cx="3745080" cy="57636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itial Capital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(IDR 4 trillion, </a:t>
            </a:r>
            <a:r>
              <a:rPr b="1" lang="sv-SE" sz="1400" spc="-1" strike="noStrike">
                <a:solidFill>
                  <a:srgbClr val="000000"/>
                </a:solidFill>
                <a:latin typeface="Book Antiqua"/>
              </a:rPr>
              <a:t>about US$ 410 million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0" name="Kepala Eksekutif"/>
          <p:cNvSpPr/>
          <p:nvPr/>
        </p:nvSpPr>
        <p:spPr>
          <a:xfrm>
            <a:off x="2987640" y="4437000"/>
            <a:ext cx="3745080" cy="576360"/>
          </a:xfrm>
          <a:prstGeom prst="rect">
            <a:avLst/>
          </a:prstGeom>
          <a:solidFill>
            <a:srgbClr val="70b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surance Reserve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(IDR 5.4 trillion, estimated as of Dec 2009)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195640" y="3213000"/>
            <a:ext cx="72072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2" name="Text Box 22"/>
          <p:cNvSpPr/>
          <p:nvPr/>
        </p:nvSpPr>
        <p:spPr>
          <a:xfrm rot="16200000">
            <a:off x="6090480" y="4540680"/>
            <a:ext cx="1871640" cy="368280"/>
          </a:xfrm>
          <a:prstGeom prst="rect">
            <a:avLst/>
          </a:prstGeom>
          <a:solidFill>
            <a:srgbClr val="ff66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DIC’s Fund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Fund Sufficiency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(7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4" name="Kepala Eksekutif"/>
          <p:cNvSpPr/>
          <p:nvPr/>
        </p:nvSpPr>
        <p:spPr>
          <a:xfrm>
            <a:off x="2987640" y="3789360"/>
            <a:ext cx="3745080" cy="576360"/>
          </a:xfrm>
          <a:prstGeom prst="rect">
            <a:avLst/>
          </a:prstGeom>
          <a:solidFill>
            <a:srgbClr val="6b8ed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Provision for Insurance Los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(IDR 6.9 trillion, estimated a</a:t>
            </a:r>
            <a:r>
              <a:rPr b="1" lang="sv-SE" sz="1400" spc="-1" strike="noStrike">
                <a:solidFill>
                  <a:srgbClr val="000000"/>
                </a:solidFill>
                <a:latin typeface="Book Antiqua"/>
              </a:rPr>
              <a:t>s of Dec 2009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28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3656-4A2E-4B22-AB15-0C4DE2532BF3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95280" y="2492280"/>
            <a:ext cx="82962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ook Antiqua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erima kasih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1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412F-DF68-4D54-8F31-FA58F2AE7DCF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3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Outlin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4" name="Text Box 91"/>
          <p:cNvSpPr/>
          <p:nvPr/>
        </p:nvSpPr>
        <p:spPr>
          <a:xfrm>
            <a:off x="1692360" y="1628640"/>
            <a:ext cx="648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IDIC Key Features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Mandates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Sources of Fund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Insurance Premium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Investment Policy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Back-Up Funding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Book Antiqua"/>
              </a:rPr>
              <a:t>Fund Sufficiency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D485-148D-49E6-8A14-136EA0BF398C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7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DIC Key Featur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403280" y="1700280"/>
            <a:ext cx="61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Public corporation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In between, paybox &amp; risk minimizer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Mandatory &amp; automatic membership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Ex-ante funding system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User fee funding approach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Max. coverage IDR 2 billion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Flat rate premium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9160" indent="-60804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Book Antiqua"/>
              </a:rPr>
              <a:t>Subrogation right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9F76-F20F-4AA2-9DC9-556952F1489E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258920" y="1628640"/>
            <a:ext cx="676908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mandates are protecting depositor’s fund; and actively participate in promoting financial system stability, among others, by resolving failed member bank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fulfilling its mandates, IDIC develop adequate funding mechanism and build collaboration, coordination, and information sharing with other financial safety net player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DIC utilize reimbursement to depositors of closed banks and financial assistance to improve the operation of failed bank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2" name="AutoShape 3">
            <a:hlinkClick r:id="rId1"/>
          </p:cNvPr>
          <p:cNvSpPr/>
          <p:nvPr/>
        </p:nvSpPr>
        <p:spPr>
          <a:xfrm>
            <a:off x="1187280" y="549360"/>
            <a:ext cx="691380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andates 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B3E8-BC17-4DB7-A7E2-A8309F8048D2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58920" y="1628640"/>
            <a:ext cx="676908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efore reimbursing depositors, IDIC  verify  and reconcile deposits record on failed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ligible depositors, insured deposits, payment schedule, paying agent bank, and location of payment then announced to public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resolving failed banks, IDIC provide  financial assistance, acquire General Shareholder Meeting, replace management, &amp; take necessary actions to improve soundness of the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533520" indent="-53352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financial assistance is booked as temporary capital placement to the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6" name="AutoShape 3">
            <a:hlinkClick r:id="rId1"/>
          </p:cNvPr>
          <p:cNvSpPr/>
          <p:nvPr/>
        </p:nvSpPr>
        <p:spPr>
          <a:xfrm>
            <a:off x="1187280" y="549360"/>
            <a:ext cx="691380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Mandates 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1901-F5E0-4FAC-884C-A158A299E64A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9" name="Direktorat Klaim Dan Likuidasi Bank"/>
          <p:cNvSpPr/>
          <p:nvPr/>
        </p:nvSpPr>
        <p:spPr>
          <a:xfrm>
            <a:off x="3708360" y="4005360"/>
            <a:ext cx="4103640" cy="64764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Investment Yield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0" name="Komite Informasi"/>
          <p:cNvSpPr/>
          <p:nvPr/>
        </p:nvSpPr>
        <p:spPr>
          <a:xfrm>
            <a:off x="3708360" y="2421000"/>
            <a:ext cx="4103640" cy="64908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One Time Membership Contribution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(0.5% of Paid up Capital/Equities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Kepala Eksekutif"/>
          <p:cNvSpPr/>
          <p:nvPr/>
        </p:nvSpPr>
        <p:spPr>
          <a:xfrm>
            <a:off x="3708360" y="1655640"/>
            <a:ext cx="4103640" cy="6210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Initial Capital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(IDR 4 trillion, </a:t>
            </a:r>
            <a:r>
              <a:rPr b="1" lang="sv-SE" sz="1600" spc="-1" strike="noStrike">
                <a:solidFill>
                  <a:srgbClr val="000000"/>
                </a:solidFill>
                <a:latin typeface="Book Antiqua"/>
              </a:rPr>
              <a:t>about US$ 410 million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AutoShape 34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ources of Fund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3" name="Komite Informasi"/>
          <p:cNvSpPr/>
          <p:nvPr/>
        </p:nvSpPr>
        <p:spPr>
          <a:xfrm>
            <a:off x="3708360" y="3213000"/>
            <a:ext cx="4103640" cy="64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nnual Insurance Premium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(0.2% of Average Insurable Deposits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4" name="Kepala Eksekutif"/>
          <p:cNvSpPr/>
          <p:nvPr/>
        </p:nvSpPr>
        <p:spPr>
          <a:xfrm>
            <a:off x="1187280" y="1655640"/>
            <a:ext cx="2305080" cy="6210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Government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5" name="Komite Informasi"/>
          <p:cNvSpPr/>
          <p:nvPr/>
        </p:nvSpPr>
        <p:spPr>
          <a:xfrm>
            <a:off x="1187280" y="2421000"/>
            <a:ext cx="2305080" cy="143964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Member Bank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6" name="Direktorat Klaim Dan Likuidasi Bank"/>
          <p:cNvSpPr/>
          <p:nvPr/>
        </p:nvSpPr>
        <p:spPr>
          <a:xfrm>
            <a:off x="1187280" y="4005360"/>
            <a:ext cx="2305080" cy="647640"/>
          </a:xfrm>
          <a:prstGeom prst="rect">
            <a:avLst/>
          </a:prstGeom>
          <a:solidFill>
            <a:srgbClr val="99cc00">
              <a:alpha val="9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Government Bond/Sukuk 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&amp; Central Bank Securities</a:t>
            </a:r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7" name="Direktorat Klaim Dan Likuidasi Bank"/>
          <p:cNvSpPr/>
          <p:nvPr/>
        </p:nvSpPr>
        <p:spPr>
          <a:xfrm>
            <a:off x="1187280" y="5300640"/>
            <a:ext cx="230508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osed Bank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8" name="Direktorat Klaim Dan Likuidasi Bank"/>
          <p:cNvSpPr/>
          <p:nvPr/>
        </p:nvSpPr>
        <p:spPr>
          <a:xfrm>
            <a:off x="3708360" y="5300640"/>
            <a:ext cx="4103640" cy="3603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ecovery from Liquidated Assets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9" name="Komite Informasi"/>
          <p:cNvSpPr/>
          <p:nvPr/>
        </p:nvSpPr>
        <p:spPr>
          <a:xfrm>
            <a:off x="1187280" y="4797360"/>
            <a:ext cx="2305080" cy="36036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Member Banks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0" name="Komite Informasi"/>
          <p:cNvSpPr/>
          <p:nvPr/>
        </p:nvSpPr>
        <p:spPr>
          <a:xfrm>
            <a:off x="3708360" y="4797360"/>
            <a:ext cx="4103640" cy="360360"/>
          </a:xfrm>
          <a:prstGeom prst="rect">
            <a:avLst/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Fines on Late Payment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2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7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9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5D91-A526-4FB3-BDEE-0DAB96378CFC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nsurance Premium (1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332000" y="1557360"/>
            <a:ext cx="640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Member banks pay a flat rate 0.1% semi-anually premium (0.2% p.a.) based on monthly average of insurable deposit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Member banks do self-assessment; calculate, pay, and report their own premium to IDIC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For premium payment, commercial banks  debit their accounts at the Central Bank; whilst rural banks pay to IDIC account in appointed bank with widespread branche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Late premium payment shall be fine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新細明體"/>
              </a:rPr>
              <a:t>0.5% of unpaid premium amount per day overdue, at maximum 150% of unpaid premium </a:t>
            </a: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1DA7-7AFD-4950-B7F2-F14FDC44EEC8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7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Insurance Premium (2)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332000" y="1557360"/>
            <a:ext cx="64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DIC will inform non compliance member banks to the bank supervisor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n addition, IDIC could prosecute  directors and commisioners of non compliance member banks for breaching the Law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During global financial crisis, level of coverage was increased from IDR 100 million to IDR 2 billion, but the premium rate was unchanged and there is no special premium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DIC is considering to apply differential  premium system in the near future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250920" y="645336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3F74-48B2-4674-8223-731A38119A4B}" type="slidenum">
              <a:rPr b="0" lang="en-US" sz="1400" spc="-1" strike="noStrike">
                <a:solidFill>
                  <a:srgbClr val="000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1" name="AutoShape 2">
            <a:hlinkClick r:id="rId1"/>
          </p:cNvPr>
          <p:cNvSpPr/>
          <p:nvPr/>
        </p:nvSpPr>
        <p:spPr>
          <a:xfrm>
            <a:off x="1258920" y="549360"/>
            <a:ext cx="662616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0059"/>
              </a:gs>
              <a:gs pos="50000">
                <a:srgbClr val="0000c0"/>
              </a:gs>
              <a:gs pos="100000">
                <a:srgbClr val="00005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Book Antiqua"/>
              </a:rPr>
              <a:t>Investment Policy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332000" y="1557360"/>
            <a:ext cx="6408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The emphasis of IDIC investment policy is on the safety and liquidity of the fund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DIC can only invest on securities issued by Government or Central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The investment tools includes Government Bond &amp; Islamic Bond (Sukuk), and Central Bank Certificate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For day to day operation, IDIC is allowed to place minor amount on current account in commercial bank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ffffff"/>
                </a:solidFill>
                <a:latin typeface="Book Antiqua"/>
              </a:rPr>
              <a:t>In regard to protect Islamic bank deposits, IDIC invest on Sukuk proportionally with the share of the particular deposits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2"/>
          <a:stretch/>
        </p:blipFill>
        <p:spPr>
          <a:xfrm>
            <a:off x="-214200" y="-71280"/>
            <a:ext cx="1251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1:31:39Z</dcterms:created>
  <dc:creator>Hari Prasetya</dc:creator>
  <dc:description/>
  <dc:language>en-US</dc:language>
  <cp:lastModifiedBy>Pratik Mitra</cp:lastModifiedBy>
  <dcterms:modified xsi:type="dcterms:W3CDTF">2010-01-15T07:59:57Z</dcterms:modified>
  <cp:revision>408</cp:revision>
  <dc:subject/>
  <dc:title>Slide 1</dc:title>
</cp:coreProperties>
</file>