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e5eb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FB3C-C0FA-4B92-B97F-CB08E6ECAA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B8C9-1C5E-48E0-89A2-2EBDD7EB24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3815-A67D-4217-A85B-3F55D6D89B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4571640"/>
            <a:ext cx="6019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1.</a:t>
            </a:r>
            <a:r>
              <a:rPr b="1" lang="zh-TW" sz="13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向政府或央行借款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Borrowing from government or central bank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1)</a:t>
            </a:r>
            <a:r>
              <a:rPr b="1" lang="zh-TW" sz="13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不可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向政府或央行借款之國家：泰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 cannot borrow funds from government or central bank: Thailan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2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有</a:t>
            </a:r>
            <a:r>
              <a:rPr b="1" lang="zh-TW" sz="13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政府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提供</a:t>
            </a:r>
            <a:r>
              <a:rPr b="1" lang="zh-TW" sz="13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保證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日、韓、馬、台、越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 with government guarantee when borrowing: Japan 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Malaysia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Taiwan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Vietna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3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香港可向外匯準備基金借款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 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Hong Kong can borrow money from Foreign Exchange Reserve Fun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2.</a:t>
            </a:r>
            <a:r>
              <a:rPr b="1" lang="zh-TW" sz="13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向金融機構融資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Borrowing from financial institution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1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可向金融機構融資的國家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括號為借款之信用風險權數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：港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10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日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韓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新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視有政府保證而定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台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2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泰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菲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未提供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越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can borrow money from financial institution:Hong Kong (credit risk weight: 10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Japan (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Korea (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Singapore (depending on government guarantee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Taiwan (2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Thailand (0%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the Philippines (no response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Vietnam (0%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(2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有</a:t>
            </a:r>
            <a:r>
              <a:rPr b="1" lang="zh-TW" sz="13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政府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提供</a:t>
            </a:r>
            <a:r>
              <a:rPr b="1" lang="zh-TW" sz="13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保證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日、越。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with government guarantee: Japan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Vietna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3. 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多數國家基於存保機構之公營性質，借款時金融機構之信用風險權數為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0% (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港、台除外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。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標楷體"/>
              </a:rPr>
              <a:t>Most deposit insurers are public corporations, so the credit risk weight is 0% when they borrow funds from the financial institutio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5041-2B09-4B6A-BD63-A24FA1862A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33160" y="4647960"/>
            <a:ext cx="5746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可發債之國家：日、韓、馬、俄、新、泰、菲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can raise funds by bond issuance: Japan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Malaysia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Russia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Thailand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Philippin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2. 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有回卷表達發債</a:t>
            </a:r>
            <a:r>
              <a:rPr b="1" lang="zh-TW" sz="15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免</a:t>
            </a:r>
            <a:r>
              <a:rPr b="1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信評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之國家：日、韓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Bond issuance without the requirement of credit rating: Japan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Kore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3. 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有回卷表達發債</a:t>
            </a:r>
            <a:r>
              <a:rPr b="1" lang="zh-TW" sz="15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要</a:t>
            </a:r>
            <a:r>
              <a:rPr b="1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信評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之國家：泰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Bond issuance with the requirement of credit rating: Thailan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4. 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其餘未表明發債是否須信評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馬、新、菲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);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俄羅斯表示法令未明定是否須信評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,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但不反對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Malaysia, Singapore and the Philippines did not respond if they need the credit rating; while Russia said the law does not stipulate credit rating, but it has no objection if the rating is require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5BFA-34E1-46BF-99F9-B87D47000F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資本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Capital) (P. 6 vs P. 12)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有些國家之資本並不屬存款保險基金之一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例如台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，故在此頁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Capital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一欄並未打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V”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。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3333cc"/>
                </a:solidFill>
                <a:latin typeface="Arial"/>
                <a:ea typeface="標楷體"/>
              </a:rPr>
              <a:t>部分國家尚在確認中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標楷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標楷體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In some countries, the start-up capital is not part of the deposit insurance fund, for example, Taiwan; therefore, in this slide, the capital column is not mark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0564-535D-404C-A7D3-82C5CD1A74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80880" y="4648320"/>
            <a:ext cx="6096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1.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有設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目標值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港、印尼、哈、俄、新、台、菲。比率自保額內存款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0.3% (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港、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新細明體"/>
              </a:rPr>
              <a:t>~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承保項目總存款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5%(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)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不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with target ratio: Hong Kong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Indonesia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Kazakhstan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Russia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Taiwan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the Philippines. The ratio ranges from 0.3% of insured deposits (Hong Kong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Singapore) to 5% of insurable deposits (Kazakhsta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2.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當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達到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目標值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When reaching the target ratio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1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有退費機制的國家：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 with refund system: Hong Ko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2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會降低保費的國家：印尼、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 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that will lower the premium: Indonesia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Russ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3.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當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低於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目標值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When under the target ratio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1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徵收特別保費：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Hong Kong can charge the special prem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4.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有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定期檢視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目標值機制的國家：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每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每二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 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Russia (annually) and the Philippines (every two years) review the target value periodicall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E982-6C61-44E5-8328-D35EA951C6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09480" y="4647960"/>
            <a:ext cx="5562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當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DIF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為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When deposit insurance fund is in deficit)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 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沒有政府挹注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資金的國家：港、印度、新、泰、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No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d injected from government: Hong Kong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Indi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hailand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Vietn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  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徵收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一般保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印度、印尼、日、馬、俄、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India, Indonesia, Malaysia, Russia and Vietnam can charge the general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3.  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徵收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特別保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港、日、哈、韓、馬、新、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其中在系統性危機時才能徵收特別保費的國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日、韓、台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which can collect the special premium: Hong Kong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Japan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Kazakhstan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Malaysi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aiwan. Among them, Japan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aiwan can do so only when there is a systemic cri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79CA-E389-4466-8090-968BFD2A7A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464832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 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保費收入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要課稅的國家：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aiwan CDIC’s premium income is tax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 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投資政府債券所得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要課稅的國家：印尼、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Government bond investment income of IDIC (Indonesia) and PDIC (the Philippines) is tax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3.  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其他所得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要課稅的國家：印尼、哈、俄、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Other income of IDIC (Indonesia), KDIF (Kazakhstan), DIA Russia and PDIC (the Philippines) is tax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4.  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盈餘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要課稅的國家：印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he surplus of DICGC (India) is tax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5.   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盈餘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不轉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DIF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馬來西亞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ff"/>
                </a:solidFill>
                <a:latin typeface="Arial"/>
                <a:ea typeface="標楷體"/>
              </a:rPr>
              <a:t>帳務作法待研究中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標楷體"/>
              </a:rPr>
              <a:t>)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MDIC (Malaysia) does not transfer its surplus to the DI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5854-6546-4068-BED0-362A7565BE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B9AD-064B-4670-A9E0-461419E5EA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相關細節資料彙整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D8A2-E621-4B45-8F87-0201E1F695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09120" y="4723920"/>
            <a:ext cx="4984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無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系統性機制法規的國家：港、印度、泰、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Hong Kong, India, Thailand and Vietnam do not stipula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細明體"/>
              </a:rPr>
              <a:t>a mechanism for handling a systemic crisis in the Deposit Insurance Act or other law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細明體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有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系統性機制法規的國家，除哈、俄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均訂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Special Emergency Law)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及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Banking Act)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外，其餘皆訂於存保條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Except Kazakhstan and Russia, which stipulate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細明體"/>
              </a:rPr>
              <a:t>mechanism for handling a systemic crisis in the Special Emergency Law, and Singapore, which is in the Banking Act, all other jurisdictions stipulate in the Deposit Insurance A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D57B-07D0-4FAE-98F3-733872A22D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2120" y="4647960"/>
            <a:ext cx="5410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有保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保額內存款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全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All deposit insurers cover the insured deposits in full during the financial cri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有保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保額外存款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印尼、日、哈、韓、馬、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 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Indonesia, Japan, Kazakhstan, Korea, Malaysia and Taiwan also cover the uninsured depos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3.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有保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非存款負債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印尼、馬、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Indonesia, Malaysia and Taiwan also cover the non-deposit liabil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9CC4-97DB-4132-B601-98C3B660B9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67CD-F1C4-4260-BB3B-460037A542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62120" y="4723920"/>
            <a:ext cx="5333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 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有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調高保額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印尼、哈、俄、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posit insurers raising coverage limit: Indonesi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Kazakhstan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Russi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he Philippi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 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實施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全額保障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港、馬、新、台、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posit insurers providing the blanket guarantee: Hong Kong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Malaysi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aiwan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hail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3CBB-F4C1-4416-997D-B5F2D8CAE9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62120" y="4800240"/>
            <a:ext cx="5410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  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降費率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哈、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Kazakhstan and Russia decreased the premium rat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upport banks with liquid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有收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特別保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：馬、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Malaysia and Taiwan collected the special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DCEB-BD76-4D75-96BD-219F3E72CB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83FF-C629-4931-A94B-2A178B9228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8A1C-1FC0-4DEF-81C1-DCE3504BB4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C696-631B-45AF-85B7-14614753A2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F504-8BE8-4906-AB80-13E94A07D5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F1E8-59E7-446A-9213-FBF4AC537A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62120" y="4647960"/>
            <a:ext cx="5333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賠付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港、印度、新、泰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Paybox: Hong Kong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Indi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hail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組織型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日本是半公營法人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Organization: Japan is a semi-public corpo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3.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全部強制投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其中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台灣有審核權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he membership are all mandatory, except Taiwan,   which is the mandatory application but subject to CDIC’s approv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2B2E-77DD-44FF-84C0-630C94C151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CE3A-665C-4B54-8122-28DEACE443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E62D-EE14-42CA-BDE4-44C82B3976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沒有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資本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的國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港、韓、馬、新、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without start-up capital: Hong Kong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Malaysi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Thail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B532-5CF5-4956-8013-32E05DB2C1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33520" y="4716000"/>
            <a:ext cx="5790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1. 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差別費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differential premium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1)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2005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年實施差別費率國家：港、新、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implementing differential premium system in 2005: Hong Kong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Taiw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2)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2009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年實施差別費率國家：港、新、台、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哈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馬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印尼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正規劃實施差別費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implementing differential premium system in 2009: Hong Kong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Taiwan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Kazakhstan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Malays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. In addition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Indones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 is planning to implement differential premium syst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2. 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特別保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(special premium)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徵收特別保費的國家：港、日、哈、韓、馬、新、台；其中在</a:t>
            </a:r>
            <a:r>
              <a:rPr b="1" lang="zh-TW" sz="14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系統性危機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時才能徵收的國家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日、韓、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which can collect the special premi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Hong Kong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Japan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Kazakhstan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Malaysia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Singapore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Taiwan. Among them, Japan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Taiwan can do so only when there is a systemic cris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5F7B-D786-42DA-87FD-0A2FF3EDF6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51920" y="4572000"/>
            <a:ext cx="632484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1960" indent="-291960"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可投資政府長短期債券、金融債券、存放央行或健全銀行</a:t>
            </a:r>
            <a:r>
              <a:rPr b="1" lang="zh-TW" sz="15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以外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之國家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非保本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：港、哈、俄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In addition to government bonds, notes,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nk debentur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  and deposits, deposit insurers which can invest in other financial products includ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1)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香港：以避險為目的的衍生性金融商品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Hong Kong: Risk-hedging derivative financial produ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2)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哈薩克：衍生性商品、附買回及附賣回交易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Kazakhstan: Derivative securities, REPO and reverse REPO transactions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3)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俄羅斯：股票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Russia: 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orporate shar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4)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另印尼和泰國可投資在 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other”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項目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Moreover, Indonesia and Thailand can invest in the following product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-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印尼：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央行發行的有價證券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無細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) 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Indonesia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Securities issued by central ban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-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泰國：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存放於專業金融機構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無細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>
                <a:solidFill>
                  <a:srgbClr val="000000"/>
                </a:solidFill>
                <a:latin typeface="Arial"/>
                <a:ea typeface="標楷體"/>
              </a:rPr>
              <a:t>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Thailand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標楷體"/>
              </a:rPr>
              <a:t>Deposits in specialized financial institution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56C4-5680-4086-B006-4B40A30202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. 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清理回收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和保費遲交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罰鍰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：全部國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 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Recovery from liquidation and penalties on late premium payment are also sources of the funding of all  deposit insur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.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有金融機構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Arial"/>
                <a:ea typeface="標楷體"/>
              </a:rPr>
              <a:t>捐助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國家：印尼、韓、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Deposit insurers receiving the contribution from financial institutions: Indonesia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Korea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Russ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48D54-A0CA-4947-852A-30A9880D9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634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40000" y="3777120"/>
            <a:ext cx="634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2347-5537-4ACE-A5D2-26DA492FB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4000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9224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E0962-65A7-4E72-B180-7E04C041C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85960" y="141300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1920" y="141300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40000" y="377712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85960" y="377712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1920" y="377712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AD84-E793-4BEB-A4EC-2B46B8021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340000" y="14130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626920" y="345600"/>
            <a:ext cx="48243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34000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40000" y="14130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0FEC-674E-44AB-B867-D6FC09BAE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59224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340000" y="3777120"/>
            <a:ext cx="634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634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340000" y="3777120"/>
            <a:ext cx="634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34000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59224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85960" y="141300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1920" y="141300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340000" y="377712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485960" y="377712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31920" y="3777120"/>
            <a:ext cx="2043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F3BB-86A2-4B83-9DA1-AA9E4C0CB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41F6-6D81-42BC-B3C9-FAEC459E7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1D1E-C1F4-45FA-9629-C0670E3FA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26920" y="345600"/>
            <a:ext cx="48243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AB9E8-1BC2-4D96-A109-5929D1D56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4000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3B7A-D044-48A0-97A5-0B999D0CC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92240" y="377712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52E4-6C34-4F7B-900F-2F9B3825D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26920" y="335880"/>
            <a:ext cx="4824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4000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92240" y="1413000"/>
            <a:ext cx="309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40000" y="3777120"/>
            <a:ext cx="634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F0905-4383-488F-B5E6-5E1AA3E04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26920" y="345600"/>
            <a:ext cx="4824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e5e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40000" y="14130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326a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C62F-73EA-4181-99F5-C3B4AF4B36F7}" type="slidenum">
              <a:rPr b="0" lang="en-US" sz="1400" spc="-1" strike="noStrike">
                <a:solidFill>
                  <a:srgbClr val="2d326a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7"/>
          <p:cNvGraphicFramePr/>
          <p:nvPr/>
        </p:nvGraphicFramePr>
        <p:xfrm>
          <a:off x="0" y="304920"/>
          <a:ext cx="914400" cy="885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04920"/>
                    <a:ext cx="91440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26920" y="345600"/>
            <a:ext cx="4824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e5e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340000" y="14130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866920" y="3933720"/>
            <a:ext cx="3429000" cy="18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新細明體"/>
              </a:rPr>
              <a:t>Howard N. H. Wang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新細明體"/>
              </a:rPr>
              <a:t>President</a:t>
            </a:r>
            <a:endParaRPr b="1" lang="en-US" sz="20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新細明體"/>
              </a:rPr>
              <a:t>Central Deposit Insurance Corp.</a:t>
            </a:r>
            <a:endParaRPr b="1" lang="en-US" sz="16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新細明體"/>
              </a:rPr>
              <a:t>(Taiwan)</a:t>
            </a:r>
            <a:endParaRPr b="1" lang="en-US" sz="1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-381240" y="1828440"/>
            <a:ext cx="7010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Funding Mechanisms of </a:t>
            </a:r>
            <a:br>
              <a:rPr sz="3200"/>
            </a:b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Deposit Insurance Systems </a:t>
            </a:r>
            <a:br>
              <a:rPr sz="3200"/>
            </a:b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in Asia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- ARC 2009 Research Paper</a:t>
            </a:r>
            <a:endParaRPr b="1" lang="en-US" sz="24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89" name="Text Box 1028"/>
          <p:cNvSpPr/>
          <p:nvPr/>
        </p:nvSpPr>
        <p:spPr>
          <a:xfrm>
            <a:off x="0" y="6472080"/>
            <a:ext cx="5292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ARC 8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新細明體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 Int’l Conference at Goa,  Jan. 19, 201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7" descr="C:\Users\pmitra\AppData\Local\Microsoft\Windows\Temporary Internet Files\Content.Outlook\FPXYD5H6\patch.jpg"/>
          <p:cNvPicPr/>
          <p:nvPr/>
        </p:nvPicPr>
        <p:blipFill>
          <a:blip r:embed="rId2"/>
          <a:stretch/>
        </p:blipFill>
        <p:spPr>
          <a:xfrm>
            <a:off x="857160" y="76320"/>
            <a:ext cx="7566120" cy="11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A932-709F-46F8-A9E3-3E40D788D531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496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For Liquidity Purpose—Borrowing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0" y="0"/>
            <a:ext cx="2209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s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280" y="1523880"/>
          <a:ext cx="7417080" cy="5106960"/>
        </p:xfrm>
        <a:graphic>
          <a:graphicData uri="http://schemas.openxmlformats.org/drawingml/2006/table">
            <a:tbl>
              <a:tblPr/>
              <a:tblGrid>
                <a:gridCol w="446040"/>
                <a:gridCol w="562320"/>
                <a:gridCol w="1150920"/>
                <a:gridCol w="2016000"/>
                <a:gridCol w="1728720"/>
                <a:gridCol w="1513080"/>
              </a:tblGrid>
              <a:tr h="368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Borrowing from govt. or central bank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Borrowing from FI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ovt.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entral bank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uarantor if central bank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inancial Institutions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redit Risk weight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0%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t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0%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t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0%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t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Depending on government guarante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DIC/govt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20%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0%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t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0%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7D20-C414-4320-A91C-5A16E8A838E0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026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96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For Liquidity Purpose—Bond Issuance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42" name="Text Box 1028"/>
          <p:cNvSpPr/>
          <p:nvPr/>
        </p:nvSpPr>
        <p:spPr>
          <a:xfrm>
            <a:off x="0" y="0"/>
            <a:ext cx="2209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s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360" y="1700280"/>
          <a:ext cx="7416720" cy="4968720"/>
        </p:xfrm>
        <a:graphic>
          <a:graphicData uri="http://schemas.openxmlformats.org/drawingml/2006/table">
            <a:tbl>
              <a:tblPr/>
              <a:tblGrid>
                <a:gridCol w="574560"/>
                <a:gridCol w="4824360"/>
                <a:gridCol w="201780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ebt-based Financin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redit rating required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-guaranteed deposit insurance bonds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-guaranteed DIF bonds and DIF bond repayment fund bond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 guaranteed bonds, etc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Deposit Insurance bonds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t specifie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Any Debt Instrumen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Deposit insurance bonds, bills or other financial instruments approved by the Minister of Financ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(for public offering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Bonds, debentures or other obligation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8550-841E-4375-AADC-D627856FADF4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96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Comparison of Sources of DIF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0"/>
            <a:ext cx="2209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s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0920" y="1628640"/>
          <a:ext cx="7850160" cy="4819680"/>
        </p:xfrm>
        <a:graphic>
          <a:graphicData uri="http://schemas.openxmlformats.org/drawingml/2006/table">
            <a:tbl>
              <a:tblPr/>
              <a:tblGrid>
                <a:gridCol w="504720"/>
                <a:gridCol w="615960"/>
                <a:gridCol w="752400"/>
                <a:gridCol w="719280"/>
                <a:gridCol w="649080"/>
                <a:gridCol w="863640"/>
                <a:gridCol w="503280"/>
                <a:gridCol w="936720"/>
                <a:gridCol w="936720"/>
                <a:gridCol w="647640"/>
                <a:gridCol w="720720"/>
              </a:tblGrid>
              <a:tr h="398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evenue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Liquidity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apital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remium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Earnings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n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vest-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ent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ecovery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rom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Liquidation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ther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Accommodation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Bond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ssuance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3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eneral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pecial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ine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ontribution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Accommodation from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overnment / Central Bank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Loans from FI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0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270E-B5BE-4525-80D3-081706BC5BBB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Administration of DIF-</a:t>
            </a:r>
            <a:br>
              <a:rPr sz="32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Setting of DIF Target Value</a:t>
            </a: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 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95280" y="1628640"/>
          <a:ext cx="7489800" cy="4824720"/>
        </p:xfrm>
        <a:graphic>
          <a:graphicData uri="http://schemas.openxmlformats.org/drawingml/2006/table">
            <a:tbl>
              <a:tblPr/>
              <a:tblGrid>
                <a:gridCol w="593640"/>
                <a:gridCol w="558720"/>
                <a:gridCol w="4753080"/>
                <a:gridCol w="1584360"/>
              </a:tblGrid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IF Target Valu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eriodical revie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0.3% of the insured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2.5% of the 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t less than 5% of the 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MDIC is currently developing a target fund framewor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5% of insured deposits (excluding banks with ratings equal or higher than the Russian Federation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’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rating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 yea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0.3% of the insured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2% of the insured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92.5 b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2 year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50F3-C8E5-4946-86D5-A7C18E4D2CE6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9636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Methods for Dealing with DIF Deficits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0" y="0"/>
            <a:ext cx="248436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ministration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8360" y="1628640"/>
          <a:ext cx="7343640" cy="4896000"/>
        </p:xfrm>
        <a:graphic>
          <a:graphicData uri="http://schemas.openxmlformats.org/drawingml/2006/table">
            <a:tbl>
              <a:tblPr/>
              <a:tblGrid>
                <a:gridCol w="569880"/>
                <a:gridCol w="2197080"/>
                <a:gridCol w="2333520"/>
                <a:gridCol w="2243160"/>
              </a:tblGrid>
              <a:tr h="322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overnme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remium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eneral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pecial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6C69-2171-466A-A034-BB3739233F27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026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456840"/>
            <a:ext cx="83628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Handling of Taxes and Surpluses</a:t>
            </a: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 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628640"/>
          <a:ext cx="7561080" cy="4969080"/>
        </p:xfrm>
        <a:graphic>
          <a:graphicData uri="http://schemas.openxmlformats.org/drawingml/2006/table">
            <a:tbl>
              <a:tblPr/>
              <a:tblGrid>
                <a:gridCol w="560160"/>
                <a:gridCol w="1866960"/>
                <a:gridCol w="2146320"/>
                <a:gridCol w="841320"/>
                <a:gridCol w="933480"/>
                <a:gridCol w="1212840"/>
              </a:tblGrid>
              <a:tr h="304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ax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urplu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remium Incom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overnment Bond Investment Incom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ther Incom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urplu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ransfer to DIF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6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87A3-F06E-4BA8-8A02-F2B4C08FBE0B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456840"/>
            <a:ext cx="84960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Dealing with Systemic Crises</a:t>
            </a: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 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70" name="Rectangle 116"/>
          <p:cNvSpPr/>
          <p:nvPr/>
        </p:nvSpPr>
        <p:spPr>
          <a:xfrm>
            <a:off x="684360" y="1700280"/>
            <a:ext cx="741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Agencies responsible for dealing with  systemic cri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Mechanism for dealing with systemic cri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Scope of protection during the financial cri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Reactions to the global financial crisis in terms of coverage and premi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Difference between the funding sources for an individual failure and a systemic cris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BC08-3EF7-41F9-93FA-EA47E9FC6D59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9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新細明體"/>
              </a:rPr>
              <a:t>Agencies Responsible for 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新細明體"/>
              </a:rPr>
              <a:t>Dealing with Systemic Crises</a:t>
            </a: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 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0" y="0"/>
            <a:ext cx="31240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aling with Systemic Cri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676520"/>
          <a:ext cx="7416720" cy="4964040"/>
        </p:xfrm>
        <a:graphic>
          <a:graphicData uri="http://schemas.openxmlformats.org/drawingml/2006/table">
            <a:tbl>
              <a:tblPr/>
              <a:tblGrid>
                <a:gridCol w="590400"/>
                <a:gridCol w="1706760"/>
                <a:gridCol w="1138320"/>
                <a:gridCol w="2274840"/>
                <a:gridCol w="947520"/>
                <a:gridCol w="75888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Agencies Responsible for Dealing with Systemic Crise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entral Ban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inistry of Financ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inancial Supervisory Agency/Commiss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eposit Insur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th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AB53-4571-47FE-A7FF-C153751AD7CA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026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82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新細明體"/>
              </a:rPr>
              <a:t>Mechanism for 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新細明體"/>
              </a:rPr>
              <a:t>Dealing with Systemic Crises</a:t>
            </a:r>
            <a:endParaRPr b="1" lang="en-US" sz="3000" spc="-1" strike="noStrike">
              <a:solidFill>
                <a:srgbClr val="dde5eb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80880" y="1647720"/>
          <a:ext cx="7632720" cy="5062680"/>
        </p:xfrm>
        <a:graphic>
          <a:graphicData uri="http://schemas.openxmlformats.org/drawingml/2006/table">
            <a:tbl>
              <a:tblPr/>
              <a:tblGrid>
                <a:gridCol w="595440"/>
                <a:gridCol w="1258920"/>
                <a:gridCol w="2260440"/>
                <a:gridCol w="3517920"/>
              </a:tblGrid>
              <a:tr h="280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echanism for Dealing with Systemic Crise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Y/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tipul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eposit Insurance Ac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th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pecial emergency la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  on the Structural Improvement of the Financial Indust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pecial emergency la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Banking Ac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1826"/>
          <p:cNvSpPr/>
          <p:nvPr/>
        </p:nvSpPr>
        <p:spPr>
          <a:xfrm>
            <a:off x="0" y="0"/>
            <a:ext cx="31240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aling with Systemic Cri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4041-8E48-4C30-AB20-01076C3022F7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82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Scope of Protection During Financial Crisis</a:t>
            </a: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 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09480" y="1523880"/>
          <a:ext cx="6934320" cy="4919760"/>
        </p:xfrm>
        <a:graphic>
          <a:graphicData uri="http://schemas.openxmlformats.org/drawingml/2006/table">
            <a:tbl>
              <a:tblPr/>
              <a:tblGrid>
                <a:gridCol w="708120"/>
                <a:gridCol w="1839960"/>
                <a:gridCol w="2176560"/>
                <a:gridCol w="2209680"/>
              </a:tblGrid>
              <a:tr h="55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sured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Uninsured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Non-deposit Liabilitie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Text Box 194"/>
          <p:cNvSpPr/>
          <p:nvPr/>
        </p:nvSpPr>
        <p:spPr>
          <a:xfrm>
            <a:off x="0" y="0"/>
            <a:ext cx="31240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aling with Systemic Cri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6F22-C5BA-4E59-8F3A-3B6DCDE1B513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1280" y="1557000"/>
            <a:ext cx="730872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Basic frameworks of the deposit insurance systems (DIS)</a:t>
            </a:r>
            <a:r>
              <a:rPr b="1" lang="en-US" sz="2400" spc="-1" strike="noStrike">
                <a:solidFill>
                  <a:srgbClr val="454567"/>
                </a:solidFill>
                <a:latin typeface="Times New Roman"/>
                <a:ea typeface="新細明體"/>
              </a:rPr>
              <a:t>*</a:t>
            </a: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 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Deposit insurance fund functions 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Sources of deposit insurance fund (DIF)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Administration of DIF 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Handling of taxes and surpluses 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Dealing with systemic crises 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101520" indent="-101520">
              <a:lnSpc>
                <a:spcPct val="12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Conclusion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10152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666699"/>
              </a:solidFill>
              <a:latin typeface="Arial"/>
            </a:endParaRPr>
          </a:p>
          <a:p>
            <a:pPr marL="10152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54567"/>
                </a:solidFill>
                <a:latin typeface="Arial"/>
                <a:ea typeface="新細明體"/>
              </a:rPr>
              <a:t>* 13 deposit insurers were surveyed in this study, including: HK=Hong Kong; IN=India; ID=Indonesia; JP=Japan; KZ=Kazakhstan; KR=Korea; MY=Malaysia; RU=Russia; SG=Singapore; TW=Taiwan; TH=Thailand; PH=The Philippines; VN=Vietnam. </a:t>
            </a:r>
            <a:endParaRPr b="1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09120" y="4572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Contents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FC9F-AE76-4301-8EFB-30ABBB0837F3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Reactions—Coverag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Adjustments</a:t>
            </a:r>
            <a:endParaRPr b="1" lang="en-US" sz="2800" spc="-1" strike="noStrike">
              <a:solidFill>
                <a:srgbClr val="dde5eb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280" y="1523880"/>
          <a:ext cx="8077320" cy="5105520"/>
        </p:xfrm>
        <a:graphic>
          <a:graphicData uri="http://schemas.openxmlformats.org/drawingml/2006/table">
            <a:tbl>
              <a:tblPr/>
              <a:tblGrid>
                <a:gridCol w="480960"/>
                <a:gridCol w="576360"/>
                <a:gridCol w="1305000"/>
                <a:gridCol w="1378080"/>
                <a:gridCol w="1269720"/>
                <a:gridCol w="598680"/>
                <a:gridCol w="2468520"/>
              </a:tblGrid>
              <a:tr h="46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crease in Coverag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ull Coverage / Blanket Guarante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Y/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u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overage From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overage To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Y/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u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14/ 2008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12/31/201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13/2008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P 100 m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P 2 b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23/2008- 01/01/2012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KZT 0.7 m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KZT 5 m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16/2008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12/31/201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1/2008- Permane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UB 400,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UB 700,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16/2008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12/31/201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7/2008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12/31/201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28/2008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8/10/201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6/1/2009- Permane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Peso 250,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Peso 500,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898"/>
          <p:cNvSpPr/>
          <p:nvPr/>
        </p:nvSpPr>
        <p:spPr>
          <a:xfrm>
            <a:off x="0" y="0"/>
            <a:ext cx="31240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aling with Systemic Cri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06C1-0902-4633-981D-87A4B873E1ED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628640"/>
          <a:ext cx="7826400" cy="5072040"/>
        </p:xfrm>
        <a:graphic>
          <a:graphicData uri="http://schemas.openxmlformats.org/drawingml/2006/table">
            <a:tbl>
              <a:tblPr/>
              <a:tblGrid>
                <a:gridCol w="610920"/>
                <a:gridCol w="586080"/>
                <a:gridCol w="1143000"/>
                <a:gridCol w="2286000"/>
                <a:gridCol w="685800"/>
                <a:gridCol w="251460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hange in Premium rate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ollection of Special Premium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Y/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u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onte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Y/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u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ince January 2008 the premium rates were decreased by 25%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0/16/2008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12/31/201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ermane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tarting October 2008 the premium rate was decreased from 0.13 to 0.10% per quart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11/1/2008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細明體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 12/31/201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Reactions—Premium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Adjustments</a:t>
            </a:r>
            <a:endParaRPr b="1" lang="en-US" sz="28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200" name="Text Box 156"/>
          <p:cNvSpPr/>
          <p:nvPr/>
        </p:nvSpPr>
        <p:spPr>
          <a:xfrm>
            <a:off x="0" y="0"/>
            <a:ext cx="31240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aling with Systemic Cri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8B5E-444A-46FC-AAEC-1D6D2DEEFB4C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82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新細明體"/>
              </a:rPr>
              <a:t>Difference between the Funding Sources for An Individual Failure &amp; A Systemic Crisis</a:t>
            </a:r>
            <a:endParaRPr b="1" lang="en-US" sz="26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205" name="Text Box 132"/>
          <p:cNvSpPr/>
          <p:nvPr/>
        </p:nvSpPr>
        <p:spPr>
          <a:xfrm>
            <a:off x="0" y="0"/>
            <a:ext cx="31240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aling with Systemic Cri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28600" y="1523880"/>
          <a:ext cx="8001000" cy="5153040"/>
        </p:xfrm>
        <a:graphic>
          <a:graphicData uri="http://schemas.openxmlformats.org/drawingml/2006/table">
            <a:tbl>
              <a:tblPr/>
              <a:tblGrid>
                <a:gridCol w="493560"/>
                <a:gridCol w="2306880"/>
                <a:gridCol w="520056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ame as Funding Sources for an Individual Failur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ther Funding Sourc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During the present crisis and in case of a deficit the Central Bank and the national welfare fund “Samruk-Kazyna” are defined as the funding sources till the end of 2011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After January 2012: Additional premiums from the financial institutions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The “emergency” law which authorizes the Agency to take measures aimed at prevention of bankruptcies of systemically important banks will be effective till Dec. 31, 2011.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pecial premium can be charged from insured institutions when there is the possibility of a systemic crisis.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9C01-191A-479C-A26F-1E93A68E981E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533160"/>
            <a:ext cx="8210520" cy="73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Conclusion (I)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395280" y="1628640"/>
            <a:ext cx="74898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Diversified funding vehicles are necessary to ensure sufficient funds and liquidity of deposit insur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Deposit insurance fund investment should consider mainly safety and liquidit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More Asian DIs set up DIF target val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DE56-8C8D-40A7-B61C-6AD314103B9E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5280" y="1628640"/>
            <a:ext cx="74898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Deposit insurers shall be exempt from all taxes to speed up the accumulation of deposit insurance fu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Overall financial condition should be considered while adjusting deposit insurance premium during a financial cris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Cost of handling a financial crisis should not be borne by deposit insurance organization alone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  <a:ea typeface="新細明體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3640" y="533160"/>
            <a:ext cx="8210520" cy="73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Conclusion (II)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pic>
        <p:nvPicPr>
          <p:cNvPr id="217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8DDF-E6D9-4240-BFF3-2CE0BFDB6E20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2286000"/>
            <a:ext cx="8991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54567"/>
                </a:solidFill>
                <a:latin typeface="Arial"/>
                <a:ea typeface="新細明體"/>
              </a:rPr>
              <a:t>Money is not everything,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54567"/>
                </a:solidFill>
                <a:latin typeface="Arial"/>
                <a:ea typeface="新細明體"/>
              </a:rPr>
              <a:t>but without money one can achieve noth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6"/>
          <p:cNvGrpSpPr/>
          <p:nvPr/>
        </p:nvGrpSpPr>
        <p:grpSpPr>
          <a:xfrm>
            <a:off x="838080" y="4724280"/>
            <a:ext cx="2057040" cy="1534680"/>
            <a:chOff x="838080" y="4724280"/>
            <a:chExt cx="2057040" cy="1534680"/>
          </a:xfrm>
        </p:grpSpPr>
        <p:pic>
          <p:nvPicPr>
            <p:cNvPr id="222" name="Picture 7" descr="j0222015"/>
            <p:cNvPicPr/>
            <p:nvPr/>
          </p:nvPicPr>
          <p:blipFill>
            <a:blip r:embed="rId1"/>
            <a:stretch/>
          </p:blipFill>
          <p:spPr>
            <a:xfrm>
              <a:off x="2073600" y="4724280"/>
              <a:ext cx="821520" cy="8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8" descr="BD04972_"/>
            <p:cNvPicPr/>
            <p:nvPr/>
          </p:nvPicPr>
          <p:blipFill>
            <a:blip r:embed="rId2"/>
            <a:stretch/>
          </p:blipFill>
          <p:spPr>
            <a:xfrm>
              <a:off x="838080" y="5199480"/>
              <a:ext cx="1413360" cy="105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4" name="Picture 9" descr=""/>
          <p:cNvPicPr/>
          <p:nvPr/>
        </p:nvPicPr>
        <p:blipFill>
          <a:blip r:embed="rId3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0" y="0"/>
          <a:ext cx="1295280" cy="125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9528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472428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Verdana"/>
                <a:ea typeface="新細明體"/>
              </a:rPr>
              <a:t>Thank You!</a:t>
            </a:r>
            <a:endParaRPr b="1" lang="en-US" sz="48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190880" y="4419720"/>
            <a:ext cx="319968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Verdana"/>
                <a:ea typeface="新細明體"/>
              </a:rPr>
              <a:t>cdic@cdic.gov.t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9" descr=""/>
          <p:cNvPicPr/>
          <p:nvPr/>
        </p:nvPicPr>
        <p:blipFill>
          <a:blip r:embed="rId4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4FD0-8CE7-414C-A092-F594BF8CA848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561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Basic Frameworks of DIS</a:t>
            </a:r>
            <a:r>
              <a:rPr b="1" lang="en-US" sz="3200" spc="-1" strike="noStrike">
                <a:solidFill>
                  <a:srgbClr val="dde5eb"/>
                </a:solidFill>
                <a:latin typeface="Arial"/>
                <a:ea typeface="新細明體"/>
              </a:rPr>
              <a:t> 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5280" y="1557360"/>
          <a:ext cx="7459560" cy="5041800"/>
        </p:xfrm>
        <a:graphic>
          <a:graphicData uri="http://schemas.openxmlformats.org/drawingml/2006/table">
            <a:tbl>
              <a:tblPr/>
              <a:tblGrid>
                <a:gridCol w="504720"/>
                <a:gridCol w="1511280"/>
                <a:gridCol w="1855800"/>
                <a:gridCol w="1960560"/>
                <a:gridCol w="1627200"/>
              </a:tblGrid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ate of DIS Implement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rganization Typ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and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embership Approac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eptember 2006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ay-box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January 1962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ay-box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eptember 2005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-betwee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July 197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emi-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-betwee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vember 1999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-between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June 1996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minimiz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eptember 2005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minimiz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December 2003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-betwee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April 2006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ay-box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eptember 1985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minimiz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Mandatory application, but subject to CDIC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細明體"/>
                        </a:rPr>
                        <a:t>’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s approval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August 2008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ay-box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June 1963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In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–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between (transitioning to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minimizer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July 2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ublic corpor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minimize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ompulsor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A605-FA3A-4D81-B1AA-C7818D895025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360" y="549000"/>
            <a:ext cx="4824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DIF Functions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773360"/>
          <a:ext cx="8064360" cy="4786200"/>
        </p:xfrm>
        <a:graphic>
          <a:graphicData uri="http://schemas.openxmlformats.org/drawingml/2006/table">
            <a:tbl>
              <a:tblPr/>
              <a:tblGrid>
                <a:gridCol w="536400"/>
                <a:gridCol w="1152720"/>
                <a:gridCol w="2303280"/>
                <a:gridCol w="1384560"/>
                <a:gridCol w="1306440"/>
                <a:gridCol w="1380960"/>
              </a:tblGrid>
              <a:tr h="263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eeting Insurance Obligation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inancial assistance to improve the operations of problem institution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Advance payments to depositors/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reditors of failed institution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eimburse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e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inancial assistance for the sound financial institutions to P&amp;A the failed insured institution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Establishment of bridge bank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9D5F-4B2B-4A35-9E62-A58C23605A2F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4824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Sources of DIF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41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Capital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Premium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Earnings on investment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Recoveries and other sources of revenue 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4545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567"/>
                </a:solidFill>
                <a:latin typeface="Arial"/>
                <a:ea typeface="新細明體"/>
              </a:rPr>
              <a:t>For liquidity purpose</a:t>
            </a:r>
            <a:endParaRPr b="1" lang="en-US" sz="2400" spc="-1" strike="noStrike">
              <a:solidFill>
                <a:srgbClr val="666699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  <a:ea typeface="新細明體"/>
              </a:rPr>
              <a:t>Borrowing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  <a:ea typeface="新細明體"/>
              </a:rPr>
              <a:t>Bonds issuance 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BD92-C2F6-4FE5-90B3-0D48F9724AEC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027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824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Capital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1628640"/>
          <a:ext cx="7772400" cy="5077080"/>
        </p:xfrm>
        <a:graphic>
          <a:graphicData uri="http://schemas.openxmlformats.org/drawingml/2006/table">
            <a:tbl>
              <a:tblPr/>
              <a:tblGrid>
                <a:gridCol w="614160"/>
                <a:gridCol w="1900440"/>
                <a:gridCol w="5257800"/>
              </a:tblGrid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apital Amount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ourc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 start-up capital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R0.5 billion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entral Bank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DR 4 tr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 (MOF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JPY455 m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 (MOF), Central Bank, Private financial institution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KZT110 b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Central Ban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 start-up capital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 start-up capital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UR8.4 billion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 (MOF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 start-up capital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T$10 b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 (MOF), Central Bank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No start-up capital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PHP3 b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 (national government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ND5 trill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Government (MOF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1111"/>
          <p:cNvSpPr/>
          <p:nvPr/>
        </p:nvSpPr>
        <p:spPr>
          <a:xfrm>
            <a:off x="0" y="0"/>
            <a:ext cx="2209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s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4DF3-2DDA-468B-B7BF-834E4FEE2095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050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824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Premium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880" y="1676520"/>
          <a:ext cx="7058160" cy="4897440"/>
        </p:xfrm>
        <a:graphic>
          <a:graphicData uri="http://schemas.openxmlformats.org/drawingml/2006/table">
            <a:tbl>
              <a:tblPr/>
              <a:tblGrid>
                <a:gridCol w="565200"/>
                <a:gridCol w="2540160"/>
                <a:gridCol w="1976400"/>
                <a:gridCol w="1976400"/>
              </a:tblGrid>
              <a:tr h="299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eneral Premium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pecial Premium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9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remium Assessment Basi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ate System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ed deposits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based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able deposits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based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ed deposits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ed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based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ed deposits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based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Risk-based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able deposit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Total deposit liability of bank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Insured deposits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Flat rat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新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2488"/>
          <p:cNvSpPr/>
          <p:nvPr/>
        </p:nvSpPr>
        <p:spPr>
          <a:xfrm>
            <a:off x="0" y="0"/>
            <a:ext cx="2209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s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14C5-0229-4B2A-B2F4-4029DD21451C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549000"/>
            <a:ext cx="4824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Earnings on Investment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24" name="Text Box 83"/>
          <p:cNvSpPr/>
          <p:nvPr/>
        </p:nvSpPr>
        <p:spPr>
          <a:xfrm>
            <a:off x="0" y="0"/>
            <a:ext cx="2209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s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817640"/>
          <a:ext cx="7647120" cy="4707000"/>
        </p:xfrm>
        <a:graphic>
          <a:graphicData uri="http://schemas.openxmlformats.org/drawingml/2006/table">
            <a:tbl>
              <a:tblPr/>
              <a:tblGrid>
                <a:gridCol w="465120"/>
                <a:gridCol w="557280"/>
                <a:gridCol w="865080"/>
                <a:gridCol w="790920"/>
                <a:gridCol w="649080"/>
                <a:gridCol w="719280"/>
                <a:gridCol w="649080"/>
                <a:gridCol w="935280"/>
                <a:gridCol w="1439640"/>
                <a:gridCol w="576360"/>
              </a:tblGrid>
              <a:tr h="439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Bonds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Notes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eposits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Gov. Bonds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Bank Debentures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orporate Bonds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U.S. Gov. Bonds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Foreign Financial Bonds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hort-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erm Notes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entral Bank Deposits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Deposits in Sound Financial Institutions 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ther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13088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A1A3-BCEB-4495-9477-40BD61BCED01}" type="slidenum">
              <a:rPr b="0" lang="en-US" sz="1400" spc="-1" strike="noStrike">
                <a:solidFill>
                  <a:srgbClr val="2d326a"/>
                </a:solidFill>
                <a:latin typeface="Arial"/>
                <a:ea typeface="新細明體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026"/>
          <p:cNvSpPr/>
          <p:nvPr/>
        </p:nvSpPr>
        <p:spPr>
          <a:xfrm>
            <a:off x="1371600" y="51055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280" y="609120"/>
            <a:ext cx="8496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Recoveries &amp; Other Sources of Revenue</a:t>
            </a:r>
            <a:endParaRPr b="1" lang="en-US" sz="3200" spc="-1" strike="noStrike">
              <a:solidFill>
                <a:srgbClr val="dde5eb"/>
              </a:solidFill>
              <a:latin typeface="Arial"/>
            </a:endParaRPr>
          </a:p>
        </p:txBody>
      </p:sp>
      <p:sp>
        <p:nvSpPr>
          <p:cNvPr id="130" name="Text Box 1028"/>
          <p:cNvSpPr/>
          <p:nvPr/>
        </p:nvSpPr>
        <p:spPr>
          <a:xfrm>
            <a:off x="0" y="0"/>
            <a:ext cx="2209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s of D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628640"/>
          <a:ext cx="7199280" cy="5000760"/>
        </p:xfrm>
        <a:graphic>
          <a:graphicData uri="http://schemas.openxmlformats.org/drawingml/2006/table">
            <a:tbl>
              <a:tblPr/>
              <a:tblGrid>
                <a:gridCol w="503280"/>
                <a:gridCol w="1531800"/>
                <a:gridCol w="3178080"/>
                <a:gridCol w="1986120"/>
              </a:tblGrid>
              <a:tr h="317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ecovery from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Liquidatio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Other Sources of Revenue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enalties on Late Premium Payment (Fines)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Contributions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HK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ID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JP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Z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KR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MY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RU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SG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W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TH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PH 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a0074"/>
                          </a:solidFill>
                          <a:latin typeface="Verdana"/>
                          <a:ea typeface="細明體"/>
                        </a:rPr>
                        <a:t>VN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V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細明體"/>
                        </a:rPr>
                        <a:t>-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7893000" y="-4608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15:33:04Z</dcterms:created>
  <dc:creator>Ya.p</dc:creator>
  <dc:description/>
  <dc:language>en-US</dc:language>
  <cp:lastModifiedBy>Pratik Mitra</cp:lastModifiedBy>
  <dcterms:modified xsi:type="dcterms:W3CDTF">2010-01-15T08:03:21Z</dcterms:modified>
  <cp:revision>524</cp:revision>
  <dc:subject/>
  <dc:title>投影片 1</dc:title>
</cp:coreProperties>
</file>