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4FC9-8A34-4106-8602-9CDED087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8C2-DF32-4496-BA8A-3C7FB73A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866-BBD0-427C-A81C-4073D4FB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5212-554A-4283-B321-40CA2B36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792-2882-4A77-96A0-D2BCBBB0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412E-ECE1-4D26-AA8B-3166581F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022-DBA6-4E09-8522-D1CBB005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FF5-E908-4712-87ED-C205E402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18DD-8567-421C-B55B-FA5D184F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D96-09F0-4A24-AE15-E9337E72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A0A-EB77-4C2B-8D35-EE494087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24DC-E360-429F-9660-8D8335CF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0D47-77ED-411B-83F0-4A1A40FF4A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63C6-DD1D-48CD-8C15-B9BA15227BF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hyperlink" Target="http://www.asv.org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ssons from the Financial Crisis for Bank Resolution: Russia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kolay Evstratenko, DIA Rus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760" y="342900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Role of Deposit Insurance in Bank Resolution Framework – Lessons from the Financial Cri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November 13-16, 2011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JODHPUR, IN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42960" y="5072040"/>
            <a:ext cx="1109520" cy="1459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IADI_4_ltr"/>
          <p:cNvPicPr/>
          <p:nvPr/>
        </p:nvPicPr>
        <p:blipFill>
          <a:blip r:embed="rId2"/>
          <a:stretch/>
        </p:blipFill>
        <p:spPr>
          <a:xfrm>
            <a:off x="6000840" y="0"/>
            <a:ext cx="2651040" cy="1012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4575240" cy="9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Рисунок1"/>
          <p:cNvPicPr/>
          <p:nvPr/>
        </p:nvPicPr>
        <p:blipFill>
          <a:blip r:embed="rId4"/>
          <a:stretch/>
        </p:blipFill>
        <p:spPr>
          <a:xfrm>
            <a:off x="6443640" y="5300640"/>
            <a:ext cx="2158920" cy="1092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23C6-883B-495C-9BB6-B3DC6D50638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vention of Bank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ailures: Figu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8" name="Rectangle 9"/>
          <p:cNvSpPr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nks where the Agency particip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bankruptcy prevention measures: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- Financial assistance to investors that purcha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ajority stake in a failing bank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14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- Banks in which the Agency bec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he sole sharehold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 Purchase &amp; Assumption  (partial)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leted Project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832B-D127-4582-859D-3F9C22E265D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vention of Bank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ailures: Sources of Fun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3" name="Rectangle 8"/>
          <p:cNvSpPr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ivate Investors’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al Government Property Contribution (200 billion Rubles ≈ US$6.5 bill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Bank of Russia lo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Deposit Insurance F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80E8-A518-4254-8564-622FC0E25EA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ey Less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rom the Crisis (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8" name="Rectangle 7"/>
          <p:cNvSpPr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deposit insurer needs (should hav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ility to respon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chanism to promptly reimburse deposi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 to financial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gal protection from lawsuits in the normal course of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, prompt and effective interactions with other safety-net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 to adequate funding (primary and secondary 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c awareness of and confidence in the deposit insuranc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C4C2-755E-440A-BAE7-301069AA087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ey Less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rom the Crisis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3" name="Rectangle 6"/>
          <p:cNvSpPr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y features of resolution regime that help the deposit insurer to meet its 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resolution regime for banks (financial institu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ated resolution authority responsible for exercising resolution powers – timely and 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very and resolution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failure resolution tools both for preventing bank failures (such as bail-in mechanisms, living wills) and for resolving failed banks (including P&amp;A, bridge-bank, assisted mergers, capital injection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chanism for information sharing among safety-net participants at all stages of planning and implementation of recovery and resolu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B6DA-FA7C-4DFA-A697-EFFAB183B14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7" name="Rectangle 6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osit Insurance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cow,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asv.org.r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BE38-396E-48D5-B564-96ECC48919B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ey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4 (January) – Establishment of Deposit Insurance Agency (DIA) (pay-bo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4 (August) – Function of liquidation of failed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8 (October) – Function of prevention of bank failures (systemically important ban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55AB-C3D9-4EC5-AEAA-0B1FE3B28D8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posit Insu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" name="Rectangle 6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ctober 2008 the DI coverage was increased from 400,000 rubles to 700,000 ru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insurance was abo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 premium rate was decreased (liquidity sup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youts to insured depositors start within 14 days after banking license withdrawal by the Bank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399F-18CF-4910-B127-52A96E4A2A2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posit Insurance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1" name="Rectangle 3"/>
          <p:cNvSpPr/>
          <p:nvPr/>
        </p:nvSpPr>
        <p:spPr>
          <a:xfrm>
            <a:off x="395280" y="1700280"/>
            <a:ext cx="8748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amount of insured deposits – 9798 billion rubles (≈ US$320 bi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DIS member banks – 9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osit Insurance Fund – 146 billion rubles (≈ US$4.9 bi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urance coverage limit per depositor per bank – 700,000 rubles. (≈ US$23 thous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insured events – 114 (58 in 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number of depositors of failed banks that received deposit insurance reimbursement  &gt; 350 thous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amount of insured deposits in failed banks – 58 billion rubles (≈US$1.9 bi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3C23-A19B-46E6-9D32-1AAD2996738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quid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 Failed Ban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6" name="Text Box 7"/>
          <p:cNvSpPr/>
          <p:nvPr/>
        </p:nvSpPr>
        <p:spPr>
          <a:xfrm>
            <a:off x="684360" y="2133720"/>
            <a:ext cx="770724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okes banking licen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oints provisional administr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es to the court to declare the bank insolvent/inv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4360" y="4221000"/>
            <a:ext cx="7705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urt appoints DIA a liquidator/receiver of the failed bank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84360" y="5229360"/>
            <a:ext cx="77072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 as the receiver is accountable to the court, Central Bank and bank cr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22C9-49D3-4532-9A9D-36B3D89745F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quidation of Failed Bank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in Tasks of DIA as Recei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3" name="Text Box 7"/>
          <p:cNvSpPr/>
          <p:nvPr/>
        </p:nvSpPr>
        <p:spPr>
          <a:xfrm>
            <a:off x="611280" y="2073240"/>
            <a:ext cx="72756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ment and approval of business plan and budget of receiver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09480" y="3008160"/>
            <a:ext cx="72756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ntory and appraisal of the bank’s property, collection/liquidation of its assets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611280" y="3873600"/>
            <a:ext cx="72756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ification and acceptance of creditor claims, preparation of the register of creditor claims, settlements with creditor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11280" y="5157720"/>
            <a:ext cx="72738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ations and progress reports on the course of receivership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11280" y="6093000"/>
            <a:ext cx="7275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gations and Liti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5C41-159D-48A0-BDE4-60E74E41290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quidation of Fail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anks: Fig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" name="Rectangle 6"/>
          <p:cNvSpPr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6400" indent="-35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 has been appointed as receiver in 271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6400" indent="-357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eted liquidation proceedings - 161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6400" indent="-357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ing on liquidation proceedings – 11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7D56-9F67-4D45-9D19-43A5CCF9F96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vention of Bank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ailures: Cond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7" name="Rectangle 7"/>
          <p:cNvSpPr/>
          <p:nvPr/>
        </p:nvSpPr>
        <p:spPr>
          <a:xfrm>
            <a:off x="1187280" y="1844640"/>
            <a:ext cx="67788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gency participates in prevention of bankruptcy of a bank in case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95280" y="28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ic importance of a failing bank for the national economy in general or for a particular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importance of a ba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-effectiveness for the Deposit Insurance Fund of financial rehabilitation in comparison to bankruptcy procee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9A6F-291E-4AF9-B08A-DD5DF4758F6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vention of Bank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ilure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ols Available for the Ag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3" name="Rectangle 8"/>
          <p:cNvSpPr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assistance (e.g. in finding a potential private investor for a failing ba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 assistance (e.g. providing monetary resources (secured loans) to new investor(s), purchasing assets in the course of bank rehabilitation, capital injection (solely or together with investors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 of a failing bank’s assets and liabilities to a sound bank (purchase and assum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9:13:47Z</dcterms:created>
  <dc:creator>khajra</dc:creator>
  <dc:description/>
  <dc:language>en-US</dc:language>
  <cp:lastModifiedBy>khajra</cp:lastModifiedBy>
  <dcterms:modified xsi:type="dcterms:W3CDTF">2011-11-08T07:08:04Z</dcterms:modified>
  <cp:revision>19</cp:revision>
  <dc:subject/>
  <dc:title>Slide 1</dc:title>
</cp:coreProperties>
</file>