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FE1-F54D-44C5-8CA9-D04FC517A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0C0D-C662-4F8D-8009-15DAFA735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86E-E6B8-4292-830E-1322FD00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4F1-1400-44D7-8076-E0CC9DA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26C-A158-4869-9DEA-C85A5CC9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177-289D-4D09-B054-3EE54853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799-B6C6-4D8E-A72D-936B5F70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71A-FB55-4D32-A9ED-442F40A8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238-FD76-4418-B878-CF1F0ACE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3F9-90EE-4A84-A7D0-C0266CA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FC5-C3DF-4FC1-ABF0-B27FFAEC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51D-855D-45BC-9E38-88D8A51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8AA-376A-4662-9234-1681240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DD4-1A42-45DC-884B-D6EE12C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075-E8D7-4DF7-A53D-9FB1F0BC86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54EC-6E9E-48DC-8A1C-B1E62265864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ors’ Respons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sis Framework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oven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000680" y="5214960"/>
            <a:ext cx="1109520" cy="145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279-0889-484A-A24F-0362A2070F5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actors Leading to th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on of regulator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’s Policy 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supervision and reg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systemic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3E2-555F-4B54-95E2-FAED79935C6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00000"/>
                </a:solidFill>
                <a:latin typeface="Calibri"/>
              </a:rPr>
              <a:t>Key Factors Leading to the Crisis: </a:t>
            </a: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Erosion of Regulatory Stand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Capital Standards/High Leve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mounts, quality and cyclicality of cap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Liquidity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High levels of uninsured short-term funding susceptible to pan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Deposit insurance is a necessary, but not a sufficient cond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Underwriting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down payments, weak documentation, etc. fuel excessive lending and housing bub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Consumer, business and government deb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Fuels boom-to-bust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08C-1D5F-4249-A27F-0355C8B0951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Factors Leading to the Crisis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uctural Weakne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, Lack of 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trust contributes to pa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bility to differentiate between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market instruments contribute to the downward spiral in the value of collateral once the bubble bur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ps in Financial Regulatory Overs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 banking system – MMMFs, SIV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dependencies/Systemic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A5FE-830A-4B3E-A507-F029D3CDEE0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Policy Agend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Bank Supervision/Reg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standards, Liquidit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cker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/Investo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ress Systemic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ic risk regul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regulatory standards for SIF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effective bank resolution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cross border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clearing houses for OTC deriva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511-EA45-4979-9C02-4BF2E2CF0C1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Policy Agend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e Market Disci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ranspar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Too-Big-To-F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Refor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support for Fannie/Fredd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an Modifications/ Foreclo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8E6-E6AC-4357-AD26-AD8AE17A55A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are at the early stages of financial reform implementation – unclear whether long-term or short-term perspectives will prev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will be many unintended consequences as reform measures are implemen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likely result will be a smaller, more expensive, financial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ncial crises will remain a fact of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s will need sufficient authority and flexibility to deal with these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E62-987A-47E4-9ED7-F096AB07CB0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13:47Z</dcterms:created>
  <dc:creator>khajra</dc:creator>
  <dc:description/>
  <dc:language>en-US</dc:language>
  <cp:lastModifiedBy>John Bovenzi</cp:lastModifiedBy>
  <dcterms:modified xsi:type="dcterms:W3CDTF">2011-11-08T16:44:56Z</dcterms:modified>
  <cp:revision>20</cp:revision>
  <dc:subject/>
  <dc:title>Slide 1</dc:title>
</cp:coreProperties>
</file>