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657C-6528-441D-925A-B9EA4950B8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role of deposit insurance is changing in light of the global crisis. Specifically (i) depositor protection is seen to be far more central to financial stabilization than previously thought, (ii) therefore, the DIA is being more fully integrated into the safety net framework, and (ii) the mandates of DIAs are expanding.</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5132-29BE-4183-9D64-D6DA2D9496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is principle is aimed at ensuring overall effectiveness of the resolution framework.</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assessors can find flaws in the legal framework and there could be overlap in responsibilities that can affect smooth functioning of resolution process.</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allocation of responsibility for bank resolution must be clear and all deposit-taking institutions must be subject to oversight and resolution tools.</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DIA or other authority must have adequate resolution tools that may include purchase and assumption, mergers, bridge banks, nationalization or any other tool.</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t is also important to ensure that resolution of a failing bank follows the least cost principle.</a:t>
            </a:r>
            <a:endParaRPr b="0" lang="en-US" sz="14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FCEB-7B1C-4390-832C-2338DCF760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An assessment of the Core Principles must examine all aspects of the safety net.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broad nature of Core Principles complicates the assessment proces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assessment team must be able to evaluate DIAs with variety of different mandate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team must also be able to evaluate safety net functions falling outside the direct responsibility of the deposit insurer.</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How does one do assessment of safety net framework:</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rough assessment of pre-conditions (external elements). An examination of preconditions would help the assessors identify any gaps in the legal and regulatory frameowwork.</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Understanding of entire legal and institutional framework – involves background work.</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Use of outside sources like FSAP reports, IMF and World Bank Report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Meetings with agencies involved in safety net framework</a:t>
            </a:r>
            <a:endParaRPr b="0" lang="en-US" sz="13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B76D-9B3C-4613-B281-A4BEDFE615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From our experience of working with assessments so far, it is felt that clarity in core principles may be needed in following area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larity between PPOs and mandate</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More clarity on CP 15 and 16 aimed at reducing overlap among the two</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Bringing all governance issues under one CP</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larity on powers relation to different mandates </a:t>
            </a:r>
            <a:endParaRPr b="0" lang="en-US" sz="13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4D10-B409-4B1E-B9CF-A1CBD04DD2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Core Principles is a dynamic document. Lessons learned from our pilots, self assessments, and work with IFI are all pointing the way to more robust assessment procedures.  IADI will continue to work with members to ensure that the Core Principles is an effective tool for the design and implementation of DI system.</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8438-55DD-4AEE-B7A5-FC47C35719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3D25-4BCF-4490-A215-0E713E503E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Core Principles have emerged as an important tool in guiding that reform and restructuring of deposit insurance systems.  They are being used to guide self assessments, used by the IMF and World Bank in FSAPs, and being used by the FSB in its current peer review of deposit insurance systems.</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Core Principles can applied in different jurisdictions. They are neutral with regard to different approaches to deposit insurance so long as overriding goals are achieved.  </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8D30-FF0C-4C9C-8C9F-78FECA5704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Reflecting that growing importance, the Core Principles must be understood and the challenges facing their use explored. </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re are 18 Core Principles in all. </a:t>
            </a:r>
            <a:endParaRPr b="0" lang="en-US" sz="13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5576-4712-48DD-BDC5-92C81FB73D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inciples are not arranged in any particular sequ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for analytical purposes, I would arrange them according to the role and objective of deposit insurance system.</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E9D5-1871-448A-B080-F843E08415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ore principles apply to ‘deposit insurance system’; not to ‘deposit insurance agency’ by itself. As a starting point, it is essential to understand the difference between DIS and DIA.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DIS comprises the broad range of safety net measures aimed at maintaining financial stability. It includes regulation and supervision, emergency LoLR, problem bank insolvency framework, and deposit insurance.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Significant differences exist internationally in the role and responsibility of DIA.</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A DIA may be entrusted with some of the above functions depending upon the mandate. The narrow mandate systems entrust only depositor payout function to the DIA, while the broader systems would be involved in problem bank resolution and bank supervision.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t, however, needs to be emphasized that both the DIA and DIS play a role in the stability of the financial system and better coordination among the agencies helps in achieving the goal of maintaining financial stability.</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0271-534B-4E7D-BD2E-0E78A23B85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ore Principles address all aspects of a country’s safety net. These functions are interrelated. Moreover, the assessment of compliance requires interaction with more than just the DIA but with all the safety net players. Following principles specifically relate to the broader context of safety net framework:</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6: Relationship with other safety-net participants</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14: Dealing with parties at fault in a bank failure</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15: Early detection and timely intervention and resolution</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16: Effective resolution processes</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While the above CPs directly relate to broad safety net function, there are other CPs like Public Policy Objectives (CP1) and Mandate (CP3) help in understanding the objectives and type of system.</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5FBF-B8F7-4406-84CC-0D2D2CB6A9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principal objective of this core principle is to ensure that the DIA gets adequate information and coordination mechanisms are in place in order to fulfill its mandate. </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DIA must receive essential information in time for reimbursing depositors according to public policy objective.</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A needs to learn of pending bank failures before they occur so they can manage their liquidity and move quickly to prepare for payout.</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t is also important the such arrangements should be formalised.</a:t>
            </a:r>
            <a:endParaRPr b="0" lang="en-US" sz="1400" spc="-1" strike="noStrike">
              <a:solidFill>
                <a:srgbClr val="000000"/>
              </a:solidFill>
              <a:latin typeface="Calibri"/>
            </a:endParaRPr>
          </a:p>
          <a:p>
            <a:pPr marL="3589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7949-A263-4670-953F-D901D76A44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is core principle requires that the power to take legal action against parties at fault in a bank failure must lie with deposit insurer or any other relevant authority.</a:t>
            </a:r>
            <a:endParaRPr b="0" lang="en-US" sz="1400" spc="-1" strike="noStrike">
              <a:solidFill>
                <a:srgbClr val="000000"/>
              </a:solidFill>
              <a:latin typeface="Calibri"/>
            </a:endParaRPr>
          </a:p>
          <a:p>
            <a:pPr marL="358920"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589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9FF4-B8CC-45C2-8F2B-D5730BC36D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main focus of CP 15 is on the early detection of financial distress and timely decision to intervene, while CP 16 is for the process of failure resolution once the decision to intervene is taken.</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criteria here tries to assess that the deposit insurer if effectively integrated into the early warning, intervention and failure resolution part of the safety net framework. Moreover, that framework should be effective.</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questions here relate to the overall safety net and will be covered in the preconditions.</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f shareholders can take legal actions that can halt or reverse supervisory decisions, this can undermine the authorities ability to intervene.</a:t>
            </a:r>
            <a:endParaRPr b="0" lang="en-US" sz="14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3B0B-34CE-42DF-89E5-EDC0953609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840C6-0556-4D26-8225-75389401A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FBD4A-B2A2-42B0-8F8D-5DD675B1D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C6293-E42C-48C1-AE09-C5259866A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C93F1-A9C8-44C2-BF28-A849CE741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68A13-5941-48F4-BF19-424C76C1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28BAC-4EC7-4737-BFBB-51C6B373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5280F-18F4-4B7B-B203-2F289F915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B2465-8548-4A93-9BCC-2CA0D8756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6F57F-29A5-4C74-981E-8BE8524D0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E845-7595-4256-AED2-829A09926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4C6B1-A7BC-470E-ABD7-34147D310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22858-DE83-4CE9-851C-7591E571B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E270-1845-4747-9576-9B5B52C58392}"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12949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e Principles for Effective Deposit Insurance Systems and Challenges to Assessment of Safety Net Framework</a:t>
            </a:r>
            <a:br>
              <a:rPr sz="3600"/>
            </a:br>
            <a:r>
              <a:rPr b="1" lang="en-US" sz="3600" spc="-1" strike="noStrike">
                <a:solidFill>
                  <a:srgbClr val="105e2a"/>
                </a:solidFill>
                <a:latin typeface="Calibri"/>
              </a:rPr>
              <a:t>Kumudini Hajra</a:t>
            </a:r>
            <a:endParaRPr b="0" lang="en-US" sz="3600" spc="-1" strike="noStrike">
              <a:solidFill>
                <a:srgbClr val="000000"/>
              </a:solidFill>
              <a:latin typeface="Calibri"/>
            </a:endParaRPr>
          </a:p>
        </p:txBody>
      </p:sp>
      <p:sp>
        <p:nvSpPr>
          <p:cNvPr id="49" name="PlaceHolder 2"/>
          <p:cNvSpPr>
            <a:spLocks noGrp="1"/>
          </p:cNvSpPr>
          <p:nvPr>
            <p:ph type="subTitle"/>
          </p:nvPr>
        </p:nvSpPr>
        <p:spPr>
          <a:xfrm>
            <a:off x="428760" y="3733560"/>
            <a:ext cx="8215200" cy="152388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898989"/>
                </a:solidFill>
                <a:latin typeface="Calibri"/>
              </a:rPr>
              <a:t>Role of Deposit Insurance in Bank Resolution Framework – Lessons from the Financial Crisi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898989"/>
                </a:solidFill>
                <a:latin typeface="Calibri"/>
              </a:rPr>
              <a:t>November 13-16, 2011 </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898989"/>
                </a:solidFill>
                <a:latin typeface="Calibri"/>
              </a:rPr>
              <a:t>JODHPUR, INDIA</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
          <p:cNvPicPr/>
          <p:nvPr/>
        </p:nvPicPr>
        <p:blipFill>
          <a:blip r:embed="rId1"/>
          <a:stretch/>
        </p:blipFill>
        <p:spPr>
          <a:xfrm>
            <a:off x="4038480" y="5257800"/>
            <a:ext cx="1109880" cy="1459080"/>
          </a:xfrm>
          <a:prstGeom prst="rect">
            <a:avLst/>
          </a:prstGeom>
          <a:ln w="0">
            <a:noFill/>
          </a:ln>
        </p:spPr>
      </p:pic>
      <p:pic>
        <p:nvPicPr>
          <p:cNvPr id="51" name="Picture 3" descr="IADI_4_ltr"/>
          <p:cNvPicPr/>
          <p:nvPr/>
        </p:nvPicPr>
        <p:blipFill>
          <a:blip r:embed="rId2"/>
          <a:stretch/>
        </p:blipFill>
        <p:spPr>
          <a:xfrm>
            <a:off x="6000840" y="0"/>
            <a:ext cx="2651040" cy="1012680"/>
          </a:xfrm>
          <a:prstGeom prst="rect">
            <a:avLst/>
          </a:prstGeom>
          <a:ln w="0">
            <a:noFill/>
          </a:ln>
        </p:spPr>
      </p:pic>
      <p:pic>
        <p:nvPicPr>
          <p:cNvPr id="52" name="Picture 6" descr=""/>
          <p:cNvPicPr/>
          <p:nvPr/>
        </p:nvPicPr>
        <p:blipFill>
          <a:blip r:embed="rId3"/>
          <a:stretch/>
        </p:blipFill>
        <p:spPr>
          <a:xfrm>
            <a:off x="0" y="0"/>
            <a:ext cx="457524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16: Effective resolution processes</a:t>
            </a:r>
            <a:endParaRPr b="0" lang="en-US" sz="36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Calibri"/>
              </a:rPr>
              <a:t>Effective failure-resolution processes should allow the deposit insurer to reimburse depositors promptly; minimise resolution costs and disruption of markets; maximise recoveries on assets; and, reinforce discipline through legal actions in cases of negligence or other wrongdoings</a:t>
            </a:r>
            <a:r>
              <a:rPr b="0" i="1" lang="en-GB" sz="2400" spc="-1" strike="noStrike">
                <a:solidFill>
                  <a:srgbClr val="000000"/>
                </a:solidFill>
                <a:latin typeface="Calibri"/>
              </a:rPr>
              <a:t>.</a:t>
            </a:r>
            <a:endParaRPr b="0" lang="en-US" sz="24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5e2a"/>
                </a:solidFill>
                <a:latin typeface="Calibri"/>
              </a:rPr>
              <a:t>Issues</a:t>
            </a:r>
            <a:endParaRPr b="0" lang="en-US" sz="27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Allocation of responsibility for bank resolution should be clear, including that for systemic institution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Resolution framework can be rendered ineffective by flaws in legal framework and overlap in responsibilities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Adequate tools for resolution</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Ensure least cost resolution of a failing bank</a:t>
            </a:r>
            <a:endParaRPr b="0" lang="en-US" sz="25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ssessment Challenge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05e2a"/>
                </a:solidFill>
                <a:latin typeface="Calibri"/>
              </a:rPr>
              <a:t>An assessment must evaluate the safety net</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e safety net functions outside the DIA</a:t>
            </a:r>
            <a:endParaRPr b="0" lang="en-US" sz="22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complementary skills in team</a:t>
            </a:r>
            <a:endParaRPr b="0" lang="en-US" sz="20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knowledge beyond DI</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e the role of DIAs within safety net</a:t>
            </a:r>
            <a:endParaRPr b="0" lang="en-US" sz="2200" spc="-1" strike="noStrike">
              <a:solidFill>
                <a:srgbClr val="000000"/>
              </a:solidFill>
              <a:latin typeface="Calibri"/>
            </a:endParaRPr>
          </a:p>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05e2a"/>
                </a:solidFill>
                <a:latin typeface="Calibri"/>
              </a:rPr>
              <a:t>Assessment methodologies</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ment of pre-conditions</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ing legal and institutional framework</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ernal sources </a:t>
            </a:r>
            <a:endParaRPr b="0" lang="en-US" sz="22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SAP reports</a:t>
            </a:r>
            <a:endParaRPr b="0" lang="en-US" sz="20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F and World Bank Repo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sson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e2a"/>
                </a:solidFill>
                <a:latin typeface="Calibri"/>
              </a:rPr>
              <a:t>Pilots have pointed to some lesson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rity about difference between PPOs and mand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ing overlap of CP 15 and 1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nging all governance issues under one C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powers relative to mand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xt Steps</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5e2a"/>
                </a:solidFill>
                <a:latin typeface="Calibri"/>
              </a:rPr>
              <a:t>The Core Principles and Methodology is a dynamic document</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ssons point the way to more robust assessment procedures. </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ndbook under continual revision</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some point, revise the CPs themselves</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ADI -- work with members to ensure effectiveness</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F/World Bank to continue assessment evaluation</a:t>
            </a:r>
            <a:endParaRPr b="0" lang="en-US" sz="3000" spc="-1" strike="noStrike">
              <a:solidFill>
                <a:srgbClr val="000000"/>
              </a:solidFill>
              <a:latin typeface="Calibri"/>
            </a:endParaRPr>
          </a:p>
        </p:txBody>
      </p:sp>
      <p:pic>
        <p:nvPicPr>
          <p:cNvPr id="109"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447920"/>
            <a:ext cx="8229600" cy="3504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5e2a"/>
                </a:solidFill>
                <a:latin typeface="Calibri"/>
              </a:rPr>
              <a:t>Thank you</a:t>
            </a:r>
            <a:endParaRPr b="0" lang="en-US" sz="4800" spc="-1" strike="noStrike">
              <a:solidFill>
                <a:srgbClr val="000000"/>
              </a:solidFill>
              <a:latin typeface="Calibri"/>
            </a:endParaRPr>
          </a:p>
        </p:txBody>
      </p:sp>
      <p:pic>
        <p:nvPicPr>
          <p:cNvPr id="11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274320"/>
            <a:ext cx="75438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A New World for Deposit Insurers</a:t>
            </a: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105e2a"/>
                </a:solidFill>
                <a:latin typeface="Calibri"/>
              </a:rPr>
              <a:t>Impact of the global crisis</a:t>
            </a:r>
            <a:endParaRPr b="0" lang="en-US" sz="25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ositor protection central to financial stabilization</a:t>
            </a:r>
            <a:endParaRPr b="0" lang="en-US" sz="22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A more fully integrated into the safety net</a:t>
            </a:r>
            <a:endParaRPr b="0" lang="en-US" sz="22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dates of DIAs are expanding</a:t>
            </a:r>
            <a:endParaRPr b="0" lang="en-US" sz="22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05e2a"/>
                </a:solidFill>
                <a:latin typeface="Calibri"/>
              </a:rPr>
              <a:t>Role of Core Principles in this new world</a:t>
            </a:r>
            <a:endParaRPr b="0" lang="en-US" sz="25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Ps are an important tool in:</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deposit insurance reform </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self assessments</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IMF and World Bank FSAP evaluations</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FSB in its current peer review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9280-DB99-4B41-84AA-3E57A9094C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
          <p:cNvSpPr txBox="1"/>
          <p:nvPr/>
        </p:nvSpPr>
        <p:spPr>
          <a:xfrm>
            <a:off x="3773520" y="1600200"/>
            <a:ext cx="46080" cy="46080"/>
          </a:xfrm>
          <a:prstGeom prst="rect">
            <a:avLst/>
          </a:prstGeom>
          <a:noFill/>
          <a:ln w="0">
            <a:noFill/>
          </a:ln>
        </p:spPr>
        <p:txBody>
          <a:bodyPr tIns="360" bIns="360"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extBox 7"/>
          <p:cNvSpPr/>
          <p:nvPr/>
        </p:nvSpPr>
        <p:spPr>
          <a:xfrm>
            <a:off x="304920" y="5562720"/>
            <a:ext cx="8020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6: Relationship with other safety-net participant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10: Transitioning from a blanket guarantee to a limited coverage deposit insurance system</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14: Dealing with parties at fault in a bank failu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 15: Early detection and timely intervention and resolution</a:t>
            </a:r>
            <a:endParaRPr b="0" lang="en-US" sz="1600" spc="-1" strike="noStrike">
              <a:solidFill>
                <a:srgbClr val="000000"/>
              </a:solidFill>
              <a:latin typeface="Calibri"/>
            </a:endParaRPr>
          </a:p>
        </p:txBody>
      </p:sp>
      <p:sp>
        <p:nvSpPr>
          <p:cNvPr id="59" name="Rectangle 20"/>
          <p:cNvSpPr/>
          <p:nvPr/>
        </p:nvSpPr>
        <p:spPr>
          <a:xfrm>
            <a:off x="304920" y="1371600"/>
            <a:ext cx="1447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ublic Polic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bjectives</a:t>
            </a:r>
            <a:endParaRPr b="0" lang="en-US" sz="1800" spc="-1" strike="noStrike">
              <a:solidFill>
                <a:srgbClr val="000000"/>
              </a:solidFill>
              <a:latin typeface="Calibri"/>
            </a:endParaRPr>
          </a:p>
        </p:txBody>
      </p:sp>
      <p:sp>
        <p:nvSpPr>
          <p:cNvPr id="60" name="Rectangle 24"/>
          <p:cNvSpPr/>
          <p:nvPr/>
        </p:nvSpPr>
        <p:spPr>
          <a:xfrm>
            <a:off x="1752480" y="137160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tigating moral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zard</a:t>
            </a:r>
            <a:endParaRPr b="0" lang="en-US" sz="1800" spc="-1" strike="noStrike">
              <a:solidFill>
                <a:srgbClr val="000000"/>
              </a:solidFill>
              <a:latin typeface="Calibri"/>
            </a:endParaRPr>
          </a:p>
        </p:txBody>
      </p:sp>
      <p:sp>
        <p:nvSpPr>
          <p:cNvPr id="61" name="Rectangle 39"/>
          <p:cNvSpPr/>
          <p:nvPr/>
        </p:nvSpPr>
        <p:spPr>
          <a:xfrm>
            <a:off x="3505320" y="13716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ndate</a:t>
            </a:r>
            <a:endParaRPr b="0" lang="en-US" sz="1800" spc="-1" strike="noStrike">
              <a:solidFill>
                <a:srgbClr val="000000"/>
              </a:solidFill>
              <a:latin typeface="Calibri"/>
            </a:endParaRPr>
          </a:p>
        </p:txBody>
      </p:sp>
      <p:sp>
        <p:nvSpPr>
          <p:cNvPr id="62" name="Rectangle 40"/>
          <p:cNvSpPr/>
          <p:nvPr/>
        </p:nvSpPr>
        <p:spPr>
          <a:xfrm>
            <a:off x="5257800" y="13716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4</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wers</a:t>
            </a:r>
            <a:endParaRPr b="0" lang="en-US" sz="1800" spc="-1" strike="noStrike">
              <a:solidFill>
                <a:srgbClr val="000000"/>
              </a:solidFill>
              <a:latin typeface="Calibri"/>
            </a:endParaRPr>
          </a:p>
        </p:txBody>
      </p:sp>
      <p:sp>
        <p:nvSpPr>
          <p:cNvPr id="63" name="Rectangle 41"/>
          <p:cNvSpPr/>
          <p:nvPr/>
        </p:nvSpPr>
        <p:spPr>
          <a:xfrm>
            <a:off x="1752480" y="236232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lationship…</a:t>
            </a:r>
            <a:endParaRPr b="0" lang="en-US" sz="1800" spc="-1" strike="noStrike">
              <a:solidFill>
                <a:srgbClr val="000000"/>
              </a:solidFill>
              <a:latin typeface="Calibri"/>
            </a:endParaRPr>
          </a:p>
        </p:txBody>
      </p:sp>
      <p:sp>
        <p:nvSpPr>
          <p:cNvPr id="64" name="Rectangle 42"/>
          <p:cNvSpPr/>
          <p:nvPr/>
        </p:nvSpPr>
        <p:spPr>
          <a:xfrm>
            <a:off x="304920" y="2357280"/>
            <a:ext cx="1447560" cy="10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5</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vernance</a:t>
            </a:r>
            <a:endParaRPr b="0" lang="en-US" sz="1800" spc="-1" strike="noStrike">
              <a:solidFill>
                <a:srgbClr val="000000"/>
              </a:solidFill>
              <a:latin typeface="Calibri"/>
            </a:endParaRPr>
          </a:p>
        </p:txBody>
      </p:sp>
      <p:sp>
        <p:nvSpPr>
          <p:cNvPr id="65" name="Rectangle 43"/>
          <p:cNvSpPr/>
          <p:nvPr/>
        </p:nvSpPr>
        <p:spPr>
          <a:xfrm>
            <a:off x="3505320" y="236232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7</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oss-bord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sues</a:t>
            </a:r>
            <a:endParaRPr b="0" lang="en-US" sz="1800" spc="-1" strike="noStrike">
              <a:solidFill>
                <a:srgbClr val="000000"/>
              </a:solidFill>
              <a:latin typeface="Calibri"/>
            </a:endParaRPr>
          </a:p>
        </p:txBody>
      </p:sp>
      <p:sp>
        <p:nvSpPr>
          <p:cNvPr id="66" name="Rectangle 44"/>
          <p:cNvSpPr/>
          <p:nvPr/>
        </p:nvSpPr>
        <p:spPr>
          <a:xfrm>
            <a:off x="5257800" y="236232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ulsor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mbership</a:t>
            </a:r>
            <a:endParaRPr b="0" lang="en-US" sz="1800" spc="-1" strike="noStrike">
              <a:solidFill>
                <a:srgbClr val="000000"/>
              </a:solidFill>
              <a:latin typeface="Calibri"/>
            </a:endParaRPr>
          </a:p>
        </p:txBody>
      </p:sp>
      <p:sp>
        <p:nvSpPr>
          <p:cNvPr id="67" name="Rectangle 45"/>
          <p:cNvSpPr/>
          <p:nvPr/>
        </p:nvSpPr>
        <p:spPr>
          <a:xfrm>
            <a:off x="304920" y="3429000"/>
            <a:ext cx="14666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9</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age</a:t>
            </a:r>
            <a:endParaRPr b="0" lang="en-US" sz="1800" spc="-1" strike="noStrike">
              <a:solidFill>
                <a:srgbClr val="000000"/>
              </a:solidFill>
              <a:latin typeface="Calibri"/>
            </a:endParaRPr>
          </a:p>
        </p:txBody>
      </p:sp>
      <p:sp>
        <p:nvSpPr>
          <p:cNvPr id="68" name="Rectangle 46"/>
          <p:cNvSpPr/>
          <p:nvPr/>
        </p:nvSpPr>
        <p:spPr>
          <a:xfrm>
            <a:off x="1752480" y="342900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0</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ansitioning…</a:t>
            </a:r>
            <a:endParaRPr b="0" lang="en-US" sz="1800" spc="-1" strike="noStrike">
              <a:solidFill>
                <a:srgbClr val="000000"/>
              </a:solidFill>
              <a:latin typeface="Calibri"/>
            </a:endParaRPr>
          </a:p>
        </p:txBody>
      </p:sp>
      <p:sp>
        <p:nvSpPr>
          <p:cNvPr id="69" name="Rectangle 47"/>
          <p:cNvSpPr/>
          <p:nvPr/>
        </p:nvSpPr>
        <p:spPr>
          <a:xfrm>
            <a:off x="3505320" y="34290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nding</a:t>
            </a:r>
            <a:endParaRPr b="0" lang="en-US" sz="1800" spc="-1" strike="noStrike">
              <a:solidFill>
                <a:srgbClr val="000000"/>
              </a:solidFill>
              <a:latin typeface="Calibri"/>
            </a:endParaRPr>
          </a:p>
        </p:txBody>
      </p:sp>
      <p:sp>
        <p:nvSpPr>
          <p:cNvPr id="70" name="Rectangle 48"/>
          <p:cNvSpPr/>
          <p:nvPr/>
        </p:nvSpPr>
        <p:spPr>
          <a:xfrm>
            <a:off x="5257800" y="34290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ublic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wareness</a:t>
            </a:r>
            <a:endParaRPr b="0" lang="en-US" sz="1800" spc="-1" strike="noStrike">
              <a:solidFill>
                <a:srgbClr val="000000"/>
              </a:solidFill>
              <a:latin typeface="Calibri"/>
            </a:endParaRPr>
          </a:p>
        </p:txBody>
      </p:sp>
      <p:sp>
        <p:nvSpPr>
          <p:cNvPr id="71" name="Rectangle 49"/>
          <p:cNvSpPr/>
          <p:nvPr/>
        </p:nvSpPr>
        <p:spPr>
          <a:xfrm>
            <a:off x="304920" y="4495680"/>
            <a:ext cx="14475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gal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tection</a:t>
            </a:r>
            <a:endParaRPr b="0" lang="en-US" sz="1800" spc="-1" strike="noStrike">
              <a:solidFill>
                <a:srgbClr val="000000"/>
              </a:solidFill>
              <a:latin typeface="Calibri"/>
            </a:endParaRPr>
          </a:p>
        </p:txBody>
      </p:sp>
      <p:sp>
        <p:nvSpPr>
          <p:cNvPr id="72" name="Rectangle 50"/>
          <p:cNvSpPr/>
          <p:nvPr/>
        </p:nvSpPr>
        <p:spPr>
          <a:xfrm>
            <a:off x="1752480" y="4495680"/>
            <a:ext cx="175284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4</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aling with…</a:t>
            </a:r>
            <a:endParaRPr b="0" lang="en-US" sz="1800" spc="-1" strike="noStrike">
              <a:solidFill>
                <a:srgbClr val="000000"/>
              </a:solidFill>
              <a:latin typeface="Calibri"/>
            </a:endParaRPr>
          </a:p>
        </p:txBody>
      </p:sp>
      <p:sp>
        <p:nvSpPr>
          <p:cNvPr id="73" name="Rectangle 51"/>
          <p:cNvSpPr/>
          <p:nvPr/>
        </p:nvSpPr>
        <p:spPr>
          <a:xfrm>
            <a:off x="3505320" y="4495680"/>
            <a:ext cx="17524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5</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ection…</a:t>
            </a:r>
            <a:endParaRPr b="0" lang="en-US" sz="1800" spc="-1" strike="noStrike">
              <a:solidFill>
                <a:srgbClr val="000000"/>
              </a:solidFill>
              <a:latin typeface="Calibri"/>
            </a:endParaRPr>
          </a:p>
        </p:txBody>
      </p:sp>
      <p:sp>
        <p:nvSpPr>
          <p:cNvPr id="74" name="Rectangle 52"/>
          <p:cNvSpPr/>
          <p:nvPr/>
        </p:nvSpPr>
        <p:spPr>
          <a:xfrm>
            <a:off x="5257800" y="4495680"/>
            <a:ext cx="17524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ffective </a:t>
            </a:r>
            <a:endParaRPr b="0" lang="en-US" sz="1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resolution</a:t>
            </a:r>
            <a:endParaRPr b="0" lang="en-US" sz="1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rocesses</a:t>
            </a:r>
            <a:endParaRPr b="0" lang="en-US" sz="1700" spc="-1" strike="noStrike">
              <a:solidFill>
                <a:srgbClr val="000000"/>
              </a:solidFill>
              <a:latin typeface="Calibri"/>
            </a:endParaRPr>
          </a:p>
        </p:txBody>
      </p:sp>
      <p:sp>
        <p:nvSpPr>
          <p:cNvPr id="75" name="Rectangle 53"/>
          <p:cNvSpPr/>
          <p:nvPr/>
        </p:nvSpPr>
        <p:spPr>
          <a:xfrm>
            <a:off x="7010280" y="236232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7</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imburs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positors</a:t>
            </a:r>
            <a:endParaRPr b="0" lang="en-US" sz="1800" spc="-1" strike="noStrike">
              <a:solidFill>
                <a:srgbClr val="000000"/>
              </a:solidFill>
              <a:latin typeface="Calibri"/>
            </a:endParaRPr>
          </a:p>
        </p:txBody>
      </p:sp>
      <p:sp>
        <p:nvSpPr>
          <p:cNvPr id="76" name="Rectangle 54"/>
          <p:cNvSpPr/>
          <p:nvPr/>
        </p:nvSpPr>
        <p:spPr>
          <a:xfrm>
            <a:off x="7010280" y="342900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overies</a:t>
            </a:r>
            <a:endParaRPr b="0" lang="en-US" sz="1800" spc="-1" strike="noStrike">
              <a:solidFill>
                <a:srgbClr val="000000"/>
              </a:solidFill>
              <a:latin typeface="Calibri"/>
            </a:endParaRPr>
          </a:p>
        </p:txBody>
      </p:sp>
      <p:pic>
        <p:nvPicPr>
          <p:cNvPr id="77" name="Picture 23" descr=""/>
          <p:cNvPicPr/>
          <p:nvPr/>
        </p:nvPicPr>
        <p:blipFill>
          <a:blip r:embed="rId1"/>
          <a:stretch/>
        </p:blipFill>
        <p:spPr>
          <a:xfrm>
            <a:off x="0" y="0"/>
            <a:ext cx="739800" cy="973080"/>
          </a:xfrm>
          <a:prstGeom prst="rect">
            <a:avLst/>
          </a:prstGeom>
          <a:ln w="0">
            <a:noFill/>
          </a:ln>
        </p:spPr>
      </p:pic>
      <p:sp>
        <p:nvSpPr>
          <p:cNvPr id="78" name="PlaceHolder 1"/>
          <p:cNvSpPr>
            <a:spLocks noGrp="1"/>
          </p:cNvSpPr>
          <p:nvPr>
            <p:ph type="title"/>
          </p:nvPr>
        </p:nvSpPr>
        <p:spPr>
          <a:xfrm>
            <a:off x="914400" y="274680"/>
            <a:ext cx="77724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e Principles for Effective DI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274320"/>
            <a:ext cx="75438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nalytical Framework</a:t>
            </a:r>
            <a:endParaRPr b="0" lang="en-US" sz="3600" spc="-1" strike="noStrike">
              <a:solidFill>
                <a:srgbClr val="000000"/>
              </a:solidFill>
              <a:latin typeface="Calibri"/>
            </a:endParaRPr>
          </a:p>
        </p:txBody>
      </p:sp>
      <p:sp>
        <p:nvSpPr>
          <p:cNvPr id="80" name=""/>
          <p:cNvSpPr txBox="1"/>
          <p:nvPr/>
        </p:nvSpPr>
        <p:spPr>
          <a:xfrm>
            <a:off x="499680" y="1142640"/>
            <a:ext cx="4111560" cy="5072040"/>
          </a:xfrm>
          <a:prstGeom prst="rect">
            <a:avLst/>
          </a:prstGeom>
          <a:noFill/>
          <a:ln w="0">
            <a:noFill/>
          </a:ln>
        </p:spPr>
        <p:txBody>
          <a:bodyPr anchor="t">
            <a:normAutofit fontScale="96000"/>
          </a:bodyPr>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Strategic rol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 Public policy objective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2. Mitigating moral hazard</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3. Mandat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Organizational issues for DI</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4. Power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5. Governanc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3. Legal protection</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2. Public awarenes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Design features for DI</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8. Compulsory membership</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9. Coverag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1. Funding</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7. Reimbursing depositor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8. Recoveries</a:t>
            </a:r>
            <a:endParaRPr b="0" lang="en-US" sz="1900" spc="-1" strike="noStrike">
              <a:solidFill>
                <a:srgbClr val="000000"/>
              </a:solidFill>
              <a:latin typeface="Calibri"/>
            </a:endParaRPr>
          </a:p>
        </p:txBody>
      </p:sp>
      <p:sp>
        <p:nvSpPr>
          <p:cNvPr id="81" name=""/>
          <p:cNvSpPr txBox="1"/>
          <p:nvPr/>
        </p:nvSpPr>
        <p:spPr>
          <a:xfrm>
            <a:off x="4495680" y="1218960"/>
            <a:ext cx="4191120" cy="535284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Design features for expanded mandates</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5. Early detection and timely intervention and resolution</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6. Effective resolution processes</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Links to broader safety net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4. Dealing with parties at fault</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0. Transitioning from a blanket to  limited coverage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 7. Cross-border issues</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82" name="Picture 4"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746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 for Core Principles</a:t>
            </a:r>
            <a:endParaRPr b="0" lang="en-US" sz="4000" spc="-1" strike="noStrike">
              <a:solidFill>
                <a:srgbClr val="000000"/>
              </a:solidFill>
              <a:latin typeface="Calibri"/>
            </a:endParaRPr>
          </a:p>
        </p:txBody>
      </p:sp>
      <p:sp>
        <p:nvSpPr>
          <p:cNvPr id="84" name=""/>
          <p:cNvSpPr txBox="1"/>
          <p:nvPr/>
        </p:nvSpPr>
        <p:spPr>
          <a:xfrm>
            <a:off x="457200" y="1356840"/>
            <a:ext cx="8229600" cy="4768920"/>
          </a:xfrm>
          <a:prstGeom prst="rect">
            <a:avLst/>
          </a:prstGeom>
          <a:noFill/>
          <a:ln w="0">
            <a:noFill/>
          </a:ln>
        </p:spPr>
        <p:txBody>
          <a:bodyPr anchor="t">
            <a:normAutofit fontScale="98000"/>
          </a:bodyPr>
          <a:p>
            <a:pPr marL="335880" indent="-3358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105e2a"/>
                </a:solidFill>
                <a:latin typeface="Calibri"/>
              </a:rPr>
              <a:t>Focus of Core Principles</a:t>
            </a:r>
            <a:endParaRPr b="0" lang="en-US" sz="35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Ps refer to deposit insurance system not to the agency</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deposit insurance system involves all safety net players</a:t>
            </a:r>
            <a:endParaRPr b="0" lang="en-US" sz="27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visors</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olution agencies</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osit insurers</a:t>
            </a:r>
            <a:endParaRPr b="0" lang="en-US" sz="20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national differences in role, responsibility of DI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date of DIA differs internationally. </a:t>
            </a:r>
            <a:endParaRPr b="0" lang="en-US" sz="27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ow mandate systems -- payout </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box plus -- some resolution functions</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inimizer</a:t>
            </a:r>
            <a:endParaRPr b="0" lang="en-US" sz="2000" spc="-1" strike="noStrike">
              <a:solidFill>
                <a:srgbClr val="000000"/>
              </a:solidFill>
              <a:latin typeface="Calibri"/>
            </a:endParaRPr>
          </a:p>
        </p:txBody>
      </p:sp>
      <p:pic>
        <p:nvPicPr>
          <p:cNvPr id="8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inciples for Broader Safety Net</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e2a"/>
                </a:solidFill>
                <a:latin typeface="Calibri"/>
              </a:rPr>
              <a:t>Role in Safety Ne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6: Relationship with other safety-net participa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14: Dealing with parties at fault in a bank fail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15: Early detection and timely intervention and resolu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16: Effective resolution proces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6: Relationship with other </a:t>
            </a:r>
            <a:br>
              <a:rPr sz="3600"/>
            </a:br>
            <a:r>
              <a:rPr b="1" lang="en-US" sz="3600" spc="-1" strike="noStrike">
                <a:solidFill>
                  <a:srgbClr val="000000"/>
                </a:solidFill>
                <a:latin typeface="Calibri"/>
              </a:rPr>
              <a:t>safety-net participants</a:t>
            </a:r>
            <a:endParaRPr b="0" lang="en-US" sz="36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 framework should be in place for the close coordination and information sharing, on a routine basis as well as in relation to particular banks, among the deposit insurer and other financial system safety-net participants.</a:t>
            </a:r>
            <a:endParaRPr b="0" lang="en-US" sz="26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5e2a"/>
                </a:solidFill>
                <a:latin typeface="Calibri"/>
              </a:rPr>
              <a:t>Issues</a:t>
            </a:r>
            <a:endParaRPr b="0" lang="en-US" sz="30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licit and formal arrangements for information sharing</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ance and essential information to prepare for payout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ning forward-looking scenario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14: Dealing with parties at fault </a:t>
            </a:r>
            <a:br>
              <a:rPr sz="3600"/>
            </a:br>
            <a:r>
              <a:rPr b="1" lang="en-US" sz="3600" spc="-1" strike="noStrike">
                <a:solidFill>
                  <a:srgbClr val="000000"/>
                </a:solidFill>
                <a:latin typeface="Calibri"/>
              </a:rPr>
              <a:t>in a bank failure</a:t>
            </a:r>
            <a:endParaRPr b="0" lang="en-US" sz="36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 deposit insurer, or other relevant authority, should be provided with the power to seek legal redress against those parties at fault in a bank failure.</a:t>
            </a:r>
            <a:endParaRPr b="0" lang="en-US" sz="26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e2a"/>
                </a:solidFill>
                <a:latin typeface="Calibri"/>
              </a:rPr>
              <a:t>Issues</a:t>
            </a:r>
            <a:endParaRPr b="0" lang="en-US" sz="32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ation of those responsible internally for bank failur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ctions for responsible parties – consultation with lawyers</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4"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15: Early detection and timely intervention and resolution</a:t>
            </a:r>
            <a:endParaRPr b="0" lang="en-US" sz="36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deposit insurer should be part of a framework for the early detection and timely intervention and resolution of troubled banks.</a:t>
            </a:r>
            <a:endParaRPr b="0" lang="en-US" sz="24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5e2a"/>
                </a:solidFill>
                <a:latin typeface="Calibri"/>
              </a:rPr>
              <a:t>Issues</a:t>
            </a:r>
            <a:endParaRPr b="0" lang="en-US" sz="30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P 15 is for early detection of financial distress and timely decision to intervene; CP 16 is for process of failure resolution</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Role for DI in early warning, intervention and failure resolution framework </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ether the framework is effective – relates to overall safety net</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Rights of shareholders</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7"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6T12:16:35Z</dcterms:created>
  <dc:creator>khajra</dc:creator>
  <dc:description/>
  <dc:language>en-US</dc:language>
  <cp:lastModifiedBy>Kumudini Hajra</cp:lastModifiedBy>
  <dcterms:modified xsi:type="dcterms:W3CDTF">2011-11-06T13:09:19Z</dcterms:modified>
  <cp:revision>26</cp:revision>
  <dc:subject/>
  <dc:title>Slide 1</dc:title>
</cp:coreProperties>
</file>