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E04-C9C4-4320-B7E4-74E0A002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24B-8E31-44E5-B314-BBEA236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82D-7571-419A-87E6-9E759E13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FE7-49A8-4EC4-8790-589758DA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D9B-788E-425B-BA94-1529A8E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CC3-5164-474E-9EAB-CD490B7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DE7-6550-4118-BFBE-EA2D533C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01E-45C8-4FE0-B8B6-82A25E63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180-5D2E-44A1-9129-CDB46B6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FAC-A58C-4FDF-A7CB-1D5869B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2F6-3EDB-490E-B3E5-1F63BCC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DA8-C3BE-488E-B062-5C04A3B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2F7-2E12-4CDB-B208-3FAAB9A5D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5E4F-D0CA-47F5-B0D8-BDFCCF650B6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4953-B0DA-4403-9C7C-B9190D18456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Bank Resolution Framework: International Best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000680" y="5214960"/>
            <a:ext cx="1109520" cy="145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614920" y="5229360"/>
            <a:ext cx="3529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jay Deshp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International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DIC -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41B2-FA1F-4816-A77E-F34CBBA95FC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1116000" y="836640"/>
            <a:ext cx="3960720" cy="4032360"/>
          </a:xfrm>
          <a:prstGeom prst="ellipse">
            <a:avLst/>
          </a:prstGeom>
          <a:noFill/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635280" y="836640"/>
            <a:ext cx="4106880" cy="4030560"/>
          </a:xfrm>
          <a:prstGeom prst="ellipse">
            <a:avLst/>
          </a:prstGeom>
          <a:noFill/>
          <a:ln w="139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2268360" y="2276640"/>
            <a:ext cx="4248360" cy="4105080"/>
          </a:xfrm>
          <a:prstGeom prst="ellipse">
            <a:avLst/>
          </a:prstGeom>
          <a:noFill/>
          <a:ln w="139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03280" y="198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olvency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6000" y="1916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B’s Key Attributes for Bank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87640" y="4724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ing Compliance with Core Principles for Effective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63528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ADI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0" y="13413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Hoels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667640" y="141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796000" y="5734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mudini Haj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5D72-B110-406F-95DC-7981F03179B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B897F-3280-401F-B7B3-E196A6973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istorical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1197000"/>
            <a:ext cx="845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ctober 200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CBS, in issuing Core Principles for Banking Supervision, acknowledged that a carefully designed system of deposit insurance can contribute to public confidence in the financial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 initiated drafting of Core Principles for Effective Deposit Insurance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2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CBS and IADI issued the final version of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ember 2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, BCBS, EFDI and IMF established a Steering Committee for the development of a Methodology for Assessing Compliance with the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5FF5-FC7F-4CAE-B29A-5514693685B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CC2D8-6FDA-4901-B412-96E386AD9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977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istorical Perspectiv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96640"/>
            <a:ext cx="8256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bruary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 Working Groups established to draft methodology. Members represented IADI, BCBS, EFDI, EC, IMF, and World Ba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d draft methodology with 120 members of IADI, EFDI, BC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ptember/ Octob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three pilot field t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Czech Republic, India, and Mex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ember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nsultation and feed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7 December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tted Final Methodology to FSB Chairman Mario Drag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472F-F17D-4DEE-A121-8601AA6A054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9770D-DA10-4433-BF61-2D0E23EEF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7631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ch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ve Board of IMF supported the FSB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o introduce a new policy area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sis Resolution and Deposit Insu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ril 201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B added Core Principles to its Compendiu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12 Key  International Standards for Sou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book developed to guide Assessmen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iance with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– Sept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Assessment workshops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shington, D.C., Tirana, Albania, and Basel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25A8-27F0-401E-B2C0-7E6FE1A44F5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Extensive Training &amp; Outreach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Assessment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F/ World Bank (Round 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 and EFDI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ervisory agencies, central banks, and ministries of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Washington, D.C., and Basel, Switzer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Assessment Worksh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rana, Alb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uja,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uala Lumpur, Malay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in America (TB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s at IADI and Regional Committee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9:01:00Z</dcterms:created>
  <dc:creator>khajra</dc:creator>
  <dc:description/>
  <dc:language>en-US</dc:language>
  <cp:lastModifiedBy>Kumudini Hajra</cp:lastModifiedBy>
  <dcterms:modified xsi:type="dcterms:W3CDTF">2011-11-05T09:01:15Z</dcterms:modified>
  <cp:revision>44</cp:revision>
  <dc:subject/>
  <dc:title>Slide 1</dc:title>
</cp:coreProperties>
</file>