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6280"/>
            <a:ext cx="496584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7A2D-4C59-43A8-94C3-4E8B35E8C3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9114-83EF-4984-AF1E-0D6323D7E5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6421-A82E-41DF-81B1-D017ADB420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62AA-851B-4446-8419-CF777D1945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E4BC-D645-428B-93B9-D3596EBF73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6A80-697F-4843-9A97-7C86237382EB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2CDF-E691-48B6-A101-CD5183D52D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17BF-B8D6-4D9C-802A-910B662D0F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5C85-E635-494D-913C-1F4C0F1812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EFC7-F6DE-4A66-9C0D-71BB4D81B2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5506-144A-459F-B005-4BEF089312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62EC-8B22-41A7-AFC4-CE1E2F296B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C177-CDFB-4630-B529-A683F7EFEC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7026-673D-4781-B1E8-0D23A8C6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944-4D0D-4FBB-BED0-95613889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35ED-4A75-4ABE-BFF4-A922718F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8790-CBA4-4D6F-86B0-59933E1E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D6B7-6503-4BC8-9B45-18BA4ED0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BFC2-EF8B-4F27-BDE9-ADF7FEA2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5160-7F49-44EF-BC21-FED507B5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5BA8-C588-4FF0-8428-D910228F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E53C-C6EC-4747-B6DF-AFAC2EFB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6A55-20E2-413D-B4A8-4252CFAA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EBB3-2395-4BB7-B6F3-923E6AD0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4A3E-5B12-4061-B926-3617FD28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9D8B-7677-49AF-B32D-CF330ED35E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D17D-9E49-4F57-8526-BA2700BA9C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5105520" y="1523880"/>
            <a:ext cx="3429000" cy="4724640"/>
          </a:xfrm>
          <a:prstGeom prst="rect">
            <a:avLst/>
          </a:prstGeom>
          <a:solidFill>
            <a:srgbClr val="001f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609480" y="609480"/>
            <a:ext cx="5029200" cy="5639040"/>
          </a:xfrm>
          <a:prstGeom prst="rect">
            <a:avLst/>
          </a:prstGeom>
          <a:solidFill>
            <a:srgbClr val="001f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421000"/>
            <a:ext cx="7772400" cy="16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ss-border Insolvency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SB Key Attributes of Effective Resolution Reg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4220640"/>
            <a:ext cx="7086600" cy="17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a H</a:t>
            </a: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üp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ffffff"/>
                </a:solidFill>
                <a:latin typeface="Arial"/>
              </a:rPr>
              <a:t>Role of Deposit Insurance in Bank Resolution Framework – Lessons from the Financial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ffffff"/>
                </a:solidFill>
                <a:latin typeface="Arial"/>
              </a:rPr>
              <a:t>November 13-16, 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ffffff"/>
                </a:solidFill>
                <a:latin typeface="Arial"/>
              </a:rPr>
              <a:t>JODHPUR, 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FsbLogoH126"/>
          <p:cNvPicPr/>
          <p:nvPr/>
        </p:nvPicPr>
        <p:blipFill>
          <a:blip r:embed="rId1"/>
          <a:stretch/>
        </p:blipFill>
        <p:spPr>
          <a:xfrm>
            <a:off x="5791320" y="609480"/>
            <a:ext cx="274320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roving resolv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ontent Placeholder 2" descr=""/>
          <p:cNvPicPr/>
          <p:nvPr/>
        </p:nvPicPr>
        <p:blipFill>
          <a:blip r:embed="rId1"/>
          <a:stretch/>
        </p:blipFill>
        <p:spPr>
          <a:xfrm>
            <a:off x="115920" y="1457280"/>
            <a:ext cx="8766000" cy="524844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1CFD-B44A-489F-A2CE-EDA5048221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Addressing cross-border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Content Placeholder 8" descr=""/>
          <p:cNvPicPr/>
          <p:nvPr/>
        </p:nvPicPr>
        <p:blipFill>
          <a:blip r:embed="rId1"/>
          <a:stretch/>
        </p:blipFill>
        <p:spPr>
          <a:xfrm>
            <a:off x="426960" y="1268280"/>
            <a:ext cx="8272440" cy="485784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458A-A937-4DFD-8991-7B0F6562E4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Way forward -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ontent Placeholder 4" descr=""/>
          <p:cNvPicPr/>
          <p:nvPr/>
        </p:nvPicPr>
        <p:blipFill>
          <a:blip r:embed="rId1"/>
          <a:stretch/>
        </p:blipFill>
        <p:spPr>
          <a:xfrm>
            <a:off x="433440" y="1603440"/>
            <a:ext cx="8345520" cy="452268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C517-0F4B-4E73-BC75-A3C0B2C03E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SB SIFI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Diagram 3" descr=""/>
          <p:cNvPicPr/>
          <p:nvPr/>
        </p:nvPicPr>
        <p:blipFill>
          <a:blip r:embed="rId1"/>
          <a:stretch/>
        </p:blipFill>
        <p:spPr>
          <a:xfrm>
            <a:off x="244440" y="1127160"/>
            <a:ext cx="8313840" cy="5902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A multipronged policy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4" descr=""/>
          <p:cNvPicPr/>
          <p:nvPr/>
        </p:nvPicPr>
        <p:blipFill>
          <a:blip r:embed="rId1"/>
          <a:stretch/>
        </p:blipFill>
        <p:spPr>
          <a:xfrm>
            <a:off x="1103400" y="1395360"/>
            <a:ext cx="6718320" cy="510228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C56F-9EF4-426A-A4FD-DCB5569526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Policy measures on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ontent Placeholder 5" descr=""/>
          <p:cNvPicPr/>
          <p:nvPr/>
        </p:nvPicPr>
        <p:blipFill>
          <a:blip r:embed="rId1"/>
          <a:stretch/>
        </p:blipFill>
        <p:spPr>
          <a:xfrm>
            <a:off x="530280" y="835200"/>
            <a:ext cx="8253360" cy="5797440"/>
          </a:xfrm>
          <a:prstGeom prst="rect">
            <a:avLst/>
          </a:prstGeom>
          <a:ln w="0">
            <a:noFill/>
          </a:ln>
        </p:spPr>
      </p:pic>
      <p:sp>
        <p:nvSpPr>
          <p:cNvPr id="6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8981-76C8-4343-B18E-1650E5C76B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B Key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Diagram 1" descr=""/>
          <p:cNvPicPr/>
          <p:nvPr/>
        </p:nvPicPr>
        <p:blipFill>
          <a:blip r:embed="rId1"/>
          <a:stretch/>
        </p:blipFill>
        <p:spPr>
          <a:xfrm>
            <a:off x="396720" y="1603440"/>
            <a:ext cx="8302680" cy="4572000"/>
          </a:xfrm>
          <a:prstGeom prst="rect">
            <a:avLst/>
          </a:prstGeom>
          <a:ln w="0">
            <a:noFill/>
          </a:ln>
        </p:spPr>
      </p:pic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9177-A8DF-4E5E-9B65-4CFCE262CA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B Key attributes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Content Placeholder 1" descr=""/>
          <p:cNvPicPr/>
          <p:nvPr/>
        </p:nvPicPr>
        <p:blipFill>
          <a:blip r:embed="rId1"/>
          <a:stretch/>
        </p:blipFill>
        <p:spPr>
          <a:xfrm>
            <a:off x="347760" y="1328760"/>
            <a:ext cx="8485200" cy="462132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E5BC-AA23-4A84-A9E6-C885ACF160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B Key attributes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Diagram 1" descr=""/>
          <p:cNvPicPr/>
          <p:nvPr/>
        </p:nvPicPr>
        <p:blipFill>
          <a:blip r:embed="rId1"/>
          <a:stretch/>
        </p:blipFill>
        <p:spPr>
          <a:xfrm>
            <a:off x="396720" y="1603440"/>
            <a:ext cx="8302680" cy="4522680"/>
          </a:xfrm>
          <a:prstGeom prst="rect">
            <a:avLst/>
          </a:prstGeom>
          <a:ln w="0">
            <a:noFill/>
          </a:ln>
        </p:spPr>
      </p:pic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0017-1D52-4FD3-8688-C751A3870C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B Key attributes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Content Placeholder 1" descr=""/>
          <p:cNvPicPr/>
          <p:nvPr/>
        </p:nvPicPr>
        <p:blipFill>
          <a:blip r:embed="rId1"/>
          <a:stretch/>
        </p:blipFill>
        <p:spPr>
          <a:xfrm>
            <a:off x="396720" y="1603440"/>
            <a:ext cx="8302680" cy="4522680"/>
          </a:xfrm>
          <a:prstGeom prst="rect">
            <a:avLst/>
          </a:prstGeom>
          <a:ln w="0">
            <a:noFill/>
          </a:ln>
        </p:spPr>
      </p:pic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B788-A101-4DAA-86EF-FB7E1CB6D8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Content Placeholder 5" descr=""/>
          <p:cNvPicPr/>
          <p:nvPr/>
        </p:nvPicPr>
        <p:blipFill>
          <a:blip r:embed="rId1"/>
          <a:stretch/>
        </p:blipFill>
        <p:spPr>
          <a:xfrm>
            <a:off x="0" y="66600"/>
            <a:ext cx="9217080" cy="6772320"/>
          </a:xfrm>
          <a:prstGeom prst="rect">
            <a:avLst/>
          </a:prstGeom>
          <a:ln w="0">
            <a:noFill/>
          </a:ln>
        </p:spPr>
      </p:pic>
      <p:sp>
        <p:nvSpPr>
          <p:cNvPr id="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7F6C-532A-45BC-9799-CA23887083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468360" y="1341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Global SIF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7:31:39Z</dcterms:created>
  <dc:creator>Eva Hüpkes</dc:creator>
  <dc:description/>
  <dc:language>en-US</dc:language>
  <cp:lastModifiedBy>Eva Hüpkes</cp:lastModifiedBy>
  <dcterms:modified xsi:type="dcterms:W3CDTF">2011-11-06T21:30:06Z</dcterms:modified>
  <cp:revision>51</cp:revision>
  <dc:subject/>
  <dc:title>SIFI Resolution</dc:title>
</cp:coreProperties>
</file>