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7131050" cy="9417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7131600" cy="9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09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4039920" y="0"/>
            <a:ext cx="30906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211040" y="706320"/>
            <a:ext cx="4709880" cy="353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0" y="8945280"/>
            <a:ext cx="309096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4039920" y="8945280"/>
            <a:ext cx="309060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AEF8-F2D3-42DE-A364-7839C9BA6D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7866-BB27-47F0-9644-3B00EA25A2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B0F8-D4C2-4517-9A16-9F42FCDE1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A107-60E8-4612-90B3-31E6A811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69D6-478F-4730-BAE8-94BD789A3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B08E-3385-4504-9EBC-82CE3A82F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6820-EEF1-4C31-807D-1D274B26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19A4-9B10-4C36-BCE7-100EE29E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1B5F-ABEB-4543-9778-878AD88B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C768-C97C-4CBC-9497-82E5A426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2409-2908-461E-940F-3682B688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A73A-FA60-45C1-8260-9F333578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B536-270E-4FBA-B04F-2A2B4AF4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632B-A0DF-428D-8E0C-F39AE574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272C-0B7A-42DF-96E4-C3D2734B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1FD4-197E-4C2A-8261-FB77BE2C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D9A5-767A-49D1-A45C-D5E1C7B9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4C02-0B90-4068-8BB1-5E482B329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D1C2-2AA8-4384-B169-CBAB439B8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E8CB7C-09D0-4269-84B3-5901DB59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EB3035-BD6B-47B5-9DFE-6BCB97D2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610210-09F5-4556-8F6B-3B163AB8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912B4C-CC20-43F6-8E79-A096C80E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820337-683A-462F-AA47-CEF90276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8AD7-F625-4E00-A080-09663460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11B13F-2748-4D2F-8BE2-8C6E8F8D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6F7738-23D8-4093-9A38-7A3F248C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1E4835-536A-4D33-9BFA-9BF391E4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783265-A041-4997-BC03-6B57C489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15BBEB-FD74-468A-9B18-F20ED6F6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3764F1-7B32-48B7-AEBC-6FDC2C4F3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60236C-6BBD-487E-8B81-5C2B5436F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30DF3-5C3F-46C0-BFDA-2CF98F95A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B26AD-5301-4E92-9201-9E85F5F1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E7686-29A4-4C5A-AE08-67974684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52F5-797E-4FA6-A12D-A19EA805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77AD5-E46C-4031-922B-D36EA6EA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66AA1-DC15-412D-938D-F5690E42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3E24E-01FB-430C-A321-F2DE9499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A21B0-F8E4-4297-8798-C93984FD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62429-1D99-4FEA-B6EF-F0131BC0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8701A-10EA-4CFE-A8B0-84A858EF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78BE9-5633-4468-85C4-D40AA451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1A6B7-7894-4643-8C42-50AB80341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815BE-E006-47B4-82A1-30CC7D33C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D2EB-BC51-431F-B739-D408C8C5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A9A7-0859-4D96-984A-5EBFF863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DCF4-2238-48A4-9CE5-89B3D664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6863-8CF3-4E68-A415-41567E6C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BBB4-4844-4FCA-9FC7-BFB4EE94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A5F6-17C3-4BD6-A421-4677FD8772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Rectangle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Rectangle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Rectangle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Rounded Rectangle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ounded Rectangle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6096-53EF-4C57-9F80-0ED963C437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2D25-AA08-4852-BF8F-8A02F4F325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5371-A09D-4985-8852-3C889C4928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981080"/>
            <a:ext cx="84582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ELEMENTS OF A BANK RESOLUTION FRAMEWORK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04920" y="44956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24456"/>
                </a:solidFill>
                <a:latin typeface="Georgia"/>
              </a:rPr>
              <a:t>Wouter Bossu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24456"/>
                </a:solidFill>
                <a:latin typeface="Georgia"/>
              </a:rPr>
              <a:t>IMF Legal Department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24456"/>
                </a:solidFill>
                <a:latin typeface="Georgia"/>
              </a:rPr>
              <a:t>The views expressed herein are those of the author and should not be attributed to the IMF, its Executive Board, or its management.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24456"/>
                </a:solidFill>
                <a:latin typeface="Georg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24456"/>
                </a:solidFill>
                <a:latin typeface="Georgia"/>
              </a:rPr>
              <a:t>Jodhpur, India - 2011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7924680" y="56386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456"/>
                </a:solidFill>
                <a:latin typeface="Trebuchet MS"/>
              </a:rPr>
              <a:t>3. Design Features of Bank Resolution Frameworks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81080"/>
            <a:ext cx="8229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Institutional Aspec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lear designation and mandates of the bank resolution agency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Interaction with DGS?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Where relevant, adequate coordination mechanisms with micro-prudential supervisor and central bank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learly defined role for MoF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oordination with Market and Competition Authorities may also be relevant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onclusi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orderly resolution of banks requires a specific legal framework that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alances private and public policy objectiv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vides a well-calibrated institutional set-u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lows to restructure banks rapidly and flexibl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prises robust supportive mechanisms that go beyond insolvency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KEY TAKE-AWAY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anks are businesses of a very particular nature..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..which makes it difficult to resolve them under general insolvency law..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..and requires specific, carefully designed bank resolution framework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ROADMAP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spcBef>
                <a:spcPts val="300"/>
              </a:spcBef>
              <a:spcAft>
                <a:spcPts val="2999"/>
              </a:spcAft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pecific Nature of Bank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spcAft>
                <a:spcPts val="2999"/>
              </a:spcAft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blems with General Insolvency Law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spcAft>
                <a:spcPts val="2999"/>
              </a:spcAft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sign Features of Bank Resolution Framework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1.Specific Nature of Banks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anks are different from ordinary commercial or industrial businesses for the following 4 reason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1. Liabilities—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y be short-term, to the public, insured (DGS), backstopped by other banks, or guaranteed by Stat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2. Assets—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vulnerable to rapid quality deterioration in case of insolvency of bank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3. Systemic Nature—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anks may be systematically relevant; their disorderly  failure would cause other banks to fail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4. Official Financial Support—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ften financial support from central bank and/or MoF, possibly combined with explicit or implicit back-up of DGS by the Stat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2</a:t>
            </a: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. </a:t>
            </a: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Problems with General Insolvency Law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0476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General insolvency law is ill-suited to deal with ailing banks for the following reasons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reditor-driven procedures insufficiently internalize financial stability and fiscal cost concern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he threshold for intervention is too lat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bankruptcy trustees have little understanding of nature of banks and connection with financial system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insolvency toolkit is too blunt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utomatic and full moratorium rapidly destroys valu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lengthy procedures cause public to distrust other banks, which may cause run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24456"/>
                </a:solidFill>
                <a:latin typeface="Trebuchet MS"/>
              </a:rPr>
              <a:t>3. </a:t>
            </a:r>
            <a:r>
              <a:rPr b="1" lang="en-US" sz="2600" spc="-1" strike="noStrike">
                <a:solidFill>
                  <a:srgbClr val="424456"/>
                </a:solidFill>
                <a:latin typeface="Trebuchet MS"/>
              </a:rPr>
              <a:t>Design Features of Bank Resolution Frameworks</a:t>
            </a:r>
            <a:endParaRPr b="0" lang="en-US" sz="2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088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spcBef>
                <a:spcPts val="1199"/>
              </a:spcBef>
              <a:buClr>
                <a:srgbClr val="a04da3"/>
              </a:buClr>
              <a:buFont typeface="Georg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Broader Public Policy Objectiv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1199"/>
              </a:spcBef>
              <a:spcAft>
                <a:spcPts val="1199"/>
              </a:spcAft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ank resolution frameworks pursue essentially three public policy objective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inimizing financial instabil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inimizing fiscal cos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atisfying creditors according to their rank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public interest may justify infringing upon shareholder and creditors rights beyond what is typical in general insolvency law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rebuchet MS"/>
              </a:rPr>
              <a:t>3</a:t>
            </a:r>
            <a:r>
              <a:rPr b="1" lang="en-US" sz="2400" spc="-1" strike="noStrike">
                <a:solidFill>
                  <a:srgbClr val="424456"/>
                </a:solidFill>
                <a:latin typeface="Trebuchet MS"/>
              </a:rPr>
              <a:t>. Design Features of Bank Resolution Frameworks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752120"/>
            <a:ext cx="8229600" cy="48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611280" indent="-50400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Early Shift toward Official Contro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ost bank resolution frameworks include mechanism to shift control over troubled bank to (non-judiciary) official sector before insolvency triggers are me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uch “official administration” regimes typically featur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267120" indent="-267120">
              <a:lnSpc>
                <a:spcPct val="80000"/>
              </a:lnSpc>
              <a:spcBef>
                <a:spcPts val="1800"/>
              </a:spcBef>
              <a:spcAft>
                <a:spcPts val="601"/>
              </a:spcAft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ppointment and steering by central bank/supervisory agency 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267120" indent="-2671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based upon quantitative and/or qualitative triggers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267120" indent="-2671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with mandate to assess the bank, restructure when possible, and prepare         for liquidation if unavoidable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267120" indent="-2671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Replacement of board of directors, and sometimes also general assembly of shareholders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marL="611280" indent="-5040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3</a:t>
            </a:r>
            <a:r>
              <a:rPr b="0" lang="en-US" sz="2700" spc="-1" strike="noStrike">
                <a:solidFill>
                  <a:srgbClr val="424456"/>
                </a:solidFill>
                <a:latin typeface="Trebuchet MS"/>
              </a:rPr>
              <a:t>. Design Features of Bank Resolution Frameworks</a:t>
            </a:r>
            <a:endParaRPr b="0" lang="en-US" sz="27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33520" y="1599840"/>
            <a:ext cx="8229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.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Flexible Resolution Tool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dequate bank resolution frameworks include the following tools to resolve ailing bank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272880" indent="-27288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ransfer of Assets (including systemically relevant activities) and Liabilitie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272880" indent="-27288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ced Mergers (“shotgun wedding”)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272880" indent="-27288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ndatory Private and Public Recapitalization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272880" indent="-27288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derly Liquidation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623880" indent="-514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ome countries have also included mandatory debt restructuring in their tool ki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272880" indent="-27288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38086"/>
              </a:solidFill>
              <a:latin typeface="Georgia"/>
            </a:endParaRPr>
          </a:p>
          <a:p>
            <a:pPr marL="623880" indent="-514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456"/>
                </a:solidFill>
                <a:latin typeface="Trebuchet MS"/>
              </a:rPr>
              <a:t>3. Design Features of Bank Resolution Frameworks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Supportive Mechanism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Legal underpinnings for official financial support in budget or other laws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Interaction with DGS rules: may DGS “top up” P&amp;A?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Depositor preference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Flexible moratoria/stays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Insolvency protection for new financing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Protection for netting, financial contracts and collateral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Transfer mechanisms for financial contract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s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17:01:56Z</dcterms:created>
  <dc:creator>mhernandez</dc:creator>
  <dc:description/>
  <dc:language>en-US</dc:language>
  <cp:lastModifiedBy>Wbossu</cp:lastModifiedBy>
  <dcterms:modified xsi:type="dcterms:W3CDTF">2011-11-09T20:05:44Z</dcterms:modified>
  <cp:revision>64</cp:revision>
  <dc:subject/>
  <dc:title>ELEMENTS OF A BANK RESOLUTION FRAMEWOR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